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6.jpeg" ContentType="image/jpeg"/>
  <Override PartName="/ppt/media/TYPE.WAV" ContentType="audio/x-wav"/>
  <Override PartName="/ppt/media/WHOOSH.WAV" ContentType="audio/x-wav"/>
  <Override PartName="/ppt/media/image14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CAMERA.WAV" ContentType="audio/x-wav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2.jpeg" ContentType="image/jpeg"/>
  <Override PartName="/ppt/media/PROJCTOR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1CC-1776-4AC9-9AF6-96C3AEB8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C6D-8599-45B4-96F5-665F2D66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770-01F9-40E0-9B18-6B4345E0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1C2-B65A-4C05-AEBC-64FB8C1C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E53-2395-4541-86CA-A023050A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03B-8C4A-491D-B272-CCE769C7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2A9-3A2C-429F-B359-28FDAAC2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1BB-F2DA-4723-88B3-63E99D31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153-EC68-4BDD-BD5F-D05FE614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8F5-5A95-48F0-AD11-F3572638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73B-5F0D-4C92-8C82-F747F069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9FC-FFC1-4B64-98F8-0EFEBD63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E829-56AF-416C-AE4B-F09ECFF822E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2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aid.net/" TargetMode="External"/><Relationship Id="rId2" Type="http://schemas.openxmlformats.org/officeDocument/2006/relationships/hyperlink" Target="http://www.shaalan.net/" TargetMode="External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2.xml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" Target="slide18.xml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www.saaid.net/" TargetMode="External"/><Relationship Id="rId3" Type="http://schemas.openxmlformats.org/officeDocument/2006/relationships/hyperlink" Target="http://www.shaalan.net/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0517"/>
            </a:gs>
            <a:gs pos="100000">
              <a:srgbClr val="f40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صفة الصلا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65160" y="355680"/>
            <a:ext cx="7315200" cy="1434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ستقبال القبلة وتكبيرة الإحـــــر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523880"/>
            <a:ext cx="6400800" cy="497772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ثم يستعيذ ، أي يقول : ( </a:t>
            </a:r>
            <a:r>
              <a:rPr b="0" lang="ar-SA" sz="2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أعوذ بالله من الشيطان الرجيم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وإن شاء قال : ( </a:t>
            </a:r>
            <a:r>
              <a:rPr b="0" lang="ar-SA" sz="2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أعوذ بالله السميع العليم من الشيطان الرجيم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وإن شاء قال : ( </a:t>
            </a:r>
            <a:r>
              <a:rPr b="0" lang="ar-SA" sz="2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أعوذ بالله السميع العليم من الشيطان الرجيم من همزه ونفخه ونفثه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همز نوع من الجنون و ( نفخه ) أي الكِبْر ، و ( نفثه ) أي الشعر المذموم</a:t>
            </a:r>
            <a:br>
              <a:rPr sz="2600"/>
            </a:b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ثم يبسمل ، أي يقول : ( </a:t>
            </a:r>
            <a:r>
              <a:rPr b="0" lang="ar-SA" sz="2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بسم الله الرحمن الرحيم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. </a:t>
            </a:r>
            <a:br>
              <a:rPr sz="2600"/>
            </a:b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ثم يقرأ الفاتحة في كل ركعة لقوله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( لا صلاة لمن لم يقرأ بفاتحة الكتاب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r>
              <a:rPr b="0" lang="ar-SA" sz="26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متفق علي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، 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هي ركن لا تصح الصلاة بدونها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133720" cy="411480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A3D-8831-44A9-BA7A-3D8E0AC50497}" type="slidenum">
              <a:t>10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65160" y="355680"/>
            <a:ext cx="7315200" cy="1434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ستقبال القبلة وتكبيرة الإحـــــر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523880"/>
            <a:ext cx="5486400" cy="599364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*</a:t>
            </a:r>
            <a:r>
              <a:rPr b="0" lang="en-US" sz="29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9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إذا كان المصلي لا يُجيد الفاتحة ، فإنه يقرأ ما تيسر من القرآن بدلها ، فإذا كان لا يجيد ذلك ، فإنه يقول</a:t>
            </a:r>
            <a:r>
              <a:rPr b="0" lang="en-US" sz="29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( سبحان الله والحمد لله ولا إله إلا الله والله أكبر ولا حول ولا قوة إلا بالله</a:t>
            </a:r>
            <a:r>
              <a:rPr b="0" lang="ar-SA" sz="29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) </a:t>
            </a:r>
            <a:r>
              <a:rPr b="0" lang="ar-SA" sz="29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رواه أبو داود وصححه الألباني في صفة صلاة النب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br>
              <a:rPr sz="2900"/>
            </a:br>
            <a:r>
              <a:rPr b="0" lang="ar-SA" sz="29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يجب عليه المبادرة بتعلم الفاتحة . </a:t>
            </a:r>
            <a:br>
              <a:rPr sz="2900"/>
            </a:br>
            <a:r>
              <a:rPr b="0" lang="ar-SA" sz="29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*</a:t>
            </a:r>
            <a:r>
              <a:rPr b="0" lang="ar-SA" sz="29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ثم يقرأ بعد الفاتحة ما تيسر من القرآن الكريم . إما سورة كاملة ، أو عدة آيات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.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2133360" cy="419112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622-2DEC-40BF-B7FD-3E1CF84A15F2}" type="slidenum">
              <a:t>11</a:t>
            </a:fld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1549440"/>
            <a:ext cx="2170080" cy="411480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965160" y="355680"/>
            <a:ext cx="7315200" cy="1008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ركو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1523880"/>
            <a:ext cx="2895480" cy="460764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ثم يركع قائلاً : ( </a:t>
            </a:r>
            <a:r>
              <a:rPr b="0" lang="ar-SA" sz="32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لله أكبر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، رافعاً يديه إلى حذو منكبيه أو إلى حذو أذنيه ، كما سبق عند تكبيرة الإحر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Monotype Koufi"/>
              </a:rPr>
              <a:t>أنظر صورة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1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و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2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]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195720" y="1523880"/>
            <a:ext cx="2138400" cy="4114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636-A6CC-4B83-9493-BB8CFBF0607B}" type="slidenum">
              <a:t>12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65160" y="355680"/>
            <a:ext cx="7315200" cy="1008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ركو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1523880"/>
            <a:ext cx="2895480" cy="461844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يجب أن يسوى ظهره في الرك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 أنظر صورة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5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]</a:t>
            </a:r>
            <a:r>
              <a:rPr b="0" lang="ar-SA" sz="4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4318200" cy="388620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B04-644B-44DD-9F72-09460733B55F}" type="slidenum">
              <a:t>13</a:t>
            </a:fld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65160" y="355680"/>
            <a:ext cx="7315200" cy="1008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ركو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1523880"/>
            <a:ext cx="2895480" cy="424764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يُمَكن أصابع يديه من ركبتيه مع تفريق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 أنظر صورة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6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]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.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1563840"/>
            <a:ext cx="4496040" cy="391320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9F5-5564-4CC5-9280-9C25075BC7C4}" type="slidenum">
              <a:t>14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65160" y="355680"/>
            <a:ext cx="7315200" cy="1008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ركو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523880"/>
            <a:ext cx="7696080" cy="532008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ويقول في ركوعه ( </a:t>
            </a:r>
            <a:r>
              <a:rPr b="0" lang="ar-SA" sz="3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سبحان ربي العظيم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. </a:t>
            </a:r>
            <a:r>
              <a:rPr b="0" lang="ar-SA" sz="34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الواجب أن يقولها مرة واحدة ، وما زاد فهو سنة .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ويسن أن يقول في ركوعه : ( </a:t>
            </a:r>
            <a:r>
              <a:rPr b="0" lang="ar-SA" sz="3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سبحانك اللهم ربنا وبحمدك ، اللهم اغفر لي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r>
              <a:rPr b="0" lang="ar-SA" sz="28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متفق علي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، أو يقول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( </a:t>
            </a:r>
            <a:r>
              <a:rPr b="0" lang="ar-SA" sz="3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سبوح قدوس رب الملائكة والروح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r>
              <a:rPr b="0" lang="ar-SA" sz="28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مسل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C51-C2A0-4C44-A892-8077E7264AD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65160" y="355680"/>
            <a:ext cx="7315200" cy="1008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ركو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2590920" cy="396216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2590920" cy="396216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167-0BED-4949-A55B-10A72195BCD2}" type="slidenum">
              <a:t>16</a:t>
            </a:fld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65160" y="355680"/>
            <a:ext cx="7315200" cy="1008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ركو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24280" y="1650960"/>
            <a:ext cx="4318200" cy="388620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01520" y="1649520"/>
            <a:ext cx="4496040" cy="391320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8E4-A633-44B1-860E-6549A0C1861A}" type="slidenum">
              <a:t>17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029200" y="1704960"/>
            <a:ext cx="3809880" cy="60199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ثم يرفع رأسه من الركوع قائلاً : ( </a:t>
            </a:r>
            <a:r>
              <a:rPr b="0" lang="ar-SA" sz="28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سمع الله لمن حمده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ويُسَن أن يرفع يديه – كما سبق –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 أنظر صورة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1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و صورة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2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]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ثم يقول بعد أن يستوي قائماً ( </a:t>
            </a:r>
            <a:r>
              <a:rPr b="0" lang="ar-SA" sz="28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بنا لك الحمد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، 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أ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Monotype Kouf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( ربنا ولك الحمد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، 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أو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(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8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اللهم ربنا لك الحمد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، 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أ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(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8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للهم ربنا ولك الحمد 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2170080" cy="411480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662200" y="1727280"/>
            <a:ext cx="2138400" cy="4114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رفع من الركو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303-7427-42A0-9FF7-5D166AA3E58A}" type="slidenum">
              <a:t>18</a:t>
            </a:fld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96000" y="1676520"/>
            <a:ext cx="2295720" cy="411480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4826160" y="2082960"/>
            <a:ext cx="1676160" cy="3385800"/>
          </a:xfrm>
          <a:prstGeom prst="rect">
            <a:avLst/>
          </a:prstGeom>
          <a:solidFill>
            <a:srgbClr val="f40c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وضع خاطئ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لرفع اليدين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ينبغي أن يرفع يديه في هذا الموضوع كما في صورة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[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أو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1905120"/>
            <a:ext cx="1600200" cy="0"/>
          </a:xfrm>
          <a:prstGeom prst="line">
            <a:avLst/>
          </a:prstGeom>
          <a:ln w="76320">
            <a:solidFill>
              <a:srgbClr val="f40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52280" y="1676520"/>
            <a:ext cx="2170080" cy="411480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509920" y="1650960"/>
            <a:ext cx="2138400" cy="4114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45" name=""/>
          <p:cNvSpPr/>
          <p:nvPr/>
        </p:nvSpPr>
        <p:spPr>
          <a:xfrm flipH="1">
            <a:off x="4800240" y="548640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371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خط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541008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صحي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رفع من الركو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B5B-A884-42D0-897A-42C8D3D6BFFF}" type="slidenum">
              <a:t>19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243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  <a:effectLst>
            <a:outerShdw dist="52300" dir="11636436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Tahoma"/>
                <a:cs typeface="Monotype Koufi"/>
              </a:rPr>
              <a:t>راجعها فضيلة الشيخ العلامة </a:t>
            </a:r>
            <a:br>
              <a:rPr sz="4400"/>
            </a:br>
            <a:r>
              <a:rPr b="1" lang="ar-SA" sz="4400" spc="-1" strike="noStrike">
                <a:solidFill>
                  <a:srgbClr val="ff3300"/>
                </a:solidFill>
                <a:latin typeface="Tahoma"/>
                <a:cs typeface="Monotype Koufi"/>
              </a:rPr>
              <a:t>عبد الله بن عبد الرحمن الجبرين</a:t>
            </a:r>
            <a:br>
              <a:rPr sz="4400"/>
            </a:br>
            <a:r>
              <a:rPr b="0" lang="ar-SA" sz="4400" spc="-1" strike="noStrike">
                <a:solidFill>
                  <a:srgbClr val="ff3300"/>
                </a:solidFill>
                <a:latin typeface="Tahoma"/>
                <a:cs typeface="Monotype Koufi"/>
              </a:rPr>
              <a:t>حفظه الل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3454560"/>
            <a:ext cx="5943600" cy="3251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29200" y="1704960"/>
            <a:ext cx="3809880" cy="52459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ويُسن أن يقول بعدها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( </a:t>
            </a:r>
            <a:r>
              <a:rPr b="0" lang="ar-SA" sz="3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ملء السماوات والأرض وملء ما شئت من شيء بعد ، أهل الثناء والمجد ، أحق ما قال العبد ، وكلنا لك عبد ، لا مانع لما أعطيت ، ولا معطي لما منعت ، ولا ينفع ذا الجد منك الجد</a:t>
            </a:r>
            <a:r>
              <a:rPr b="0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مسل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666880" y="1752480"/>
            <a:ext cx="2133720" cy="40388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2133360" cy="40388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رفع من الركو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BDF-2CB2-4845-8BB0-16581248FA14}" type="slidenum">
              <a:t>20</a:t>
            </a:fld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رفع من الركو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704960"/>
            <a:ext cx="3809880" cy="448308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ويُسَن أن يضع يده اليمنى على اليسرى على صدره في هذا القيام ، كما فعل في القيام الأول قبل الركوع 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 كما في صورة 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3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و صورة 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4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]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666880" y="1752480"/>
            <a:ext cx="2133720" cy="40388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2133360" cy="40388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F70-D401-4080-B13B-05555CB302D1}" type="slidenum">
              <a:t>21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4120" y="1704960"/>
            <a:ext cx="3403440" cy="33948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 </a:t>
            </a:r>
            <a:r>
              <a:rPr b="0" lang="ar-SA" sz="40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ثم يسجد قائلاً : ( </a:t>
            </a: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لله أكبر</a:t>
            </a:r>
            <a:r>
              <a:rPr b="0" lang="ar-SA" sz="4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سجو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147840" y="1727280"/>
            <a:ext cx="1881360" cy="3606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84320" y="1727280"/>
            <a:ext cx="2635200" cy="3606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B1A-01CD-40F3-9444-0932F087193A}" type="slidenum">
              <a:t>22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038480" y="1704960"/>
            <a:ext cx="4648320" cy="4437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en-US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يقدم ركبتيه قبل يديه عند سجوده 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 أنظر صورة 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7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]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، لحديث وائل بن حُجر رضي الله عنه قال :(</a:t>
            </a:r>
            <a:r>
              <a:rPr b="0" lang="ar-SA" sz="3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رأيت النبي</a:t>
            </a:r>
            <a:r>
              <a:rPr b="0" lang="en-US" sz="36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4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</a:t>
            </a:r>
            <a:r>
              <a:rPr b="0" lang="ar-SA" sz="3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إذا سجد وضع ركبتيه قبل يديه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) </a:t>
            </a:r>
            <a:r>
              <a:rPr b="0" lang="ar-SA" sz="33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حديث صحيح رواه أهل السنن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Monotype Kouf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520" y="1727280"/>
            <a:ext cx="2949480" cy="40384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سجو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55F-53D4-40CA-A6BB-E3F44FE549F6}" type="slidenum">
              <a:t>23</a:t>
            </a:fld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057400" cy="266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371600" cy="266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886200" y="3124080"/>
            <a:ext cx="2438280" cy="266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380880" y="3124080"/>
            <a:ext cx="3444840" cy="2678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8153280" y="2971800"/>
            <a:ext cx="0" cy="838080"/>
          </a:xfrm>
          <a:prstGeom prst="line">
            <a:avLst/>
          </a:prstGeom>
          <a:ln w="1332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867280" y="5562720"/>
            <a:ext cx="914400" cy="0"/>
          </a:xfrm>
          <a:prstGeom prst="line">
            <a:avLst/>
          </a:prstGeom>
          <a:ln w="1332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276720" y="5562720"/>
            <a:ext cx="914400" cy="0"/>
          </a:xfrm>
          <a:prstGeom prst="line">
            <a:avLst/>
          </a:prstGeom>
          <a:ln w="1332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سجو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8119-A809-460D-BDCB-9E7A8994CA66}" type="slidenum">
              <a:t>24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0" y="1704960"/>
            <a:ext cx="4241880" cy="478656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ويجب أن يسجد المصلي على سبعة أعضاء : رجليه ، وركبتيه ، ويديه ، وجبهته مع الأنف ، ولا يجوز أن يرفع أي عضو منها عن الأرض أثناء سجوده ، وإذا لم يستطع المصلي أن يسجد بسبب المرض فإنه ينحني بقدر استطاعته حتى يقرب من هيئة السجود ،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 أنظر صورة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8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]</a:t>
            </a:r>
            <a:r>
              <a:rPr b="0" lang="ar-SA" sz="24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.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3840120" cy="3311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سجو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4DE-D734-4DF7-83B9-C1E1CD58D15F}" type="slidenum">
              <a:t>25</a:t>
            </a:fld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6200" y="1704960"/>
            <a:ext cx="5029200" cy="4607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يُسَن في السجود أن يُبعد عضديه عن جنبيه 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 أنظر صورة 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7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Monotype Koufi"/>
              </a:rPr>
              <a:t>د ]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، لأنه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( 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كان يسجد حتى يُرى بياض إبطيه ) </a:t>
            </a:r>
            <a:r>
              <a:rPr b="0" lang="ar-SA" sz="32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متفق عل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، 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إلا إذا كان ذلك يؤذي من بجانبه </a:t>
            </a: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ويُسَن في السجود أن يُبعد بطنه عن فخذيه ، 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 أنظر صورة 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7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Monotype Koufi"/>
              </a:rPr>
              <a:t>د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.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3444840" cy="3581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سجو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235-66CA-40FB-8B66-0F7246704A5D}" type="slidenum">
              <a:t>26</a:t>
            </a:fld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1704960"/>
            <a:ext cx="5029200" cy="49176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يُسَن في السجود أن يفرق ركبتيه ، أي لا يضمهما إلى بعض ، وأما القدمان فإنه يلصقهما ببعض لفعله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ذلك في سجوده ، لأنه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كان ( يرص عقبيه في سجوده )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ابن خزيمة وصححه الألباني في صفة صلاة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النب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onotype Koufi"/>
              </a:rPr>
              <a:t>أنظر صورة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7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onotype Koufi"/>
              </a:rPr>
              <a:t>د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]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3444840" cy="3581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سجو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5BB-099F-47E2-9961-5A297F35DBFD}" type="slidenum">
              <a:t>27</a:t>
            </a:fld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921040" y="1682640"/>
            <a:ext cx="3276720" cy="4065840"/>
          </a:xfrm>
          <a:prstGeom prst="rect">
            <a:avLst/>
          </a:prstGeom>
          <a:solidFill>
            <a:srgbClr val="f40c33"/>
          </a:solidFill>
          <a:ln w="76320">
            <a:solidFill>
              <a:srgbClr val="f4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*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يكره أن يتكئ المصلي بيديه على الأرض في سجوده [ </a:t>
            </a:r>
            <a:r>
              <a:rPr b="0" lang="ar-SA" sz="2400" spc="-1" strike="noStrike">
                <a:solidFill>
                  <a:srgbClr val="00ffff"/>
                </a:solidFill>
                <a:latin typeface="Times New Roman"/>
                <a:cs typeface="Monotype Koufi"/>
              </a:rPr>
              <a:t>كما في صورة </a:t>
            </a:r>
            <a:r>
              <a:rPr b="0" lang="ar-SA" sz="2400" spc="-1" strike="noStrike">
                <a:solidFill>
                  <a:srgbClr val="00ffff"/>
                </a:solidFill>
                <a:latin typeface="Times New Roman"/>
                <a:ea typeface="Monotype Koufi"/>
              </a:rPr>
              <a:t>9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 ] لقوله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( </a:t>
            </a:r>
            <a:r>
              <a:rPr b="0" lang="ar-SA" sz="2400" spc="-1" strike="noStrike">
                <a:solidFill>
                  <a:srgbClr val="ffccff"/>
                </a:solidFill>
                <a:latin typeface="Times New Roman"/>
                <a:cs typeface="Monotype Koufi"/>
              </a:rPr>
              <a:t>لا يبسط أحدكم ذراعيه انبساط الكلب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) </a:t>
            </a:r>
            <a:r>
              <a:rPr b="0" lang="ar-SA" sz="24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متفق علي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ولكن يجوز أن يتكئ بيديه على فخذيه إذا تعب من طول السج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00ffff"/>
                </a:solidFill>
                <a:latin typeface="Times New Roman"/>
                <a:cs typeface="Monotype Koufi"/>
              </a:rPr>
              <a:t>أنظر صورة </a:t>
            </a:r>
            <a:r>
              <a:rPr b="0" lang="ar-SA" sz="2400" spc="-1" strike="noStrike">
                <a:solidFill>
                  <a:srgbClr val="00ffff"/>
                </a:solidFill>
                <a:latin typeface="Times New Roman"/>
                <a:ea typeface="Monotype Koufi"/>
              </a:rPr>
              <a:t>1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]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248520" y="1733400"/>
            <a:ext cx="2666880" cy="20145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28600" y="1733400"/>
            <a:ext cx="2666880" cy="1959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10" name=""/>
          <p:cNvSpPr/>
          <p:nvPr/>
        </p:nvSpPr>
        <p:spPr>
          <a:xfrm flipV="1">
            <a:off x="7620120" y="3790800"/>
            <a:ext cx="0" cy="9907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422360" y="3740040"/>
            <a:ext cx="0" cy="9907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4781520"/>
            <a:ext cx="1600200" cy="642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مكرو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4807080"/>
            <a:ext cx="1600200" cy="642600"/>
          </a:xfrm>
          <a:prstGeom prst="rect">
            <a:avLst/>
          </a:prstGeom>
          <a:solidFill>
            <a:srgbClr val="00ffff"/>
          </a:solidFill>
          <a:ln w="9360">
            <a:solidFill>
              <a:srgbClr val="f4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جائ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سجو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F94-F73C-4BFF-9558-1E39ADEF9AAE}" type="slidenum">
              <a:t>28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06440" y="1704960"/>
            <a:ext cx="8356680" cy="4373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 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يجب أن يقول في سجود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( سبحان ربي الأعلى ) مرة واحدة ، وما زاد على ذلك فهو سنة . </a:t>
            </a: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ويُسَن أن يقول في سجوده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( سُبُوح قُدوس رب الملائكة والروح ) </a:t>
            </a:r>
            <a:r>
              <a:rPr b="0" lang="ar-SA" sz="2400" spc="-1" strike="noStrike">
                <a:solidFill>
                  <a:srgbClr val="ff00ff"/>
                </a:solidFill>
                <a:latin typeface="Tahoma"/>
                <a:cs typeface="Arial"/>
              </a:rPr>
              <a:t>رواه مسلم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cs typeface="Arial"/>
              </a:rPr>
              <a:t>أو يقول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( سبحانك اللهم ربنا وبحمدك ، اللهم اغفر لي ) </a:t>
            </a:r>
            <a:r>
              <a:rPr b="0" lang="ar-SA" sz="2400" spc="-1" strike="noStrike">
                <a:solidFill>
                  <a:srgbClr val="ff00ff"/>
                </a:solidFill>
                <a:latin typeface="Tahoma"/>
                <a:cs typeface="Monotype Koufi"/>
              </a:rPr>
              <a:t>متفق عليه .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سجو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1D7-BE81-41D2-8A24-5C84B6A38C8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019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  <a:effectLst>
            <a:outerShdw dist="52300" dir="11636436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Tahoma"/>
                <a:cs typeface="Monotype Koufi"/>
              </a:rPr>
              <a:t>إهداء خاص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3200" spc="-1" strike="noStrike">
                <a:solidFill>
                  <a:srgbClr val="ff3300"/>
                </a:solidFill>
                <a:latin typeface="Tahoma"/>
                <a:cs typeface="Monotype Koufi"/>
              </a:rPr>
              <a:t>جزاهم الله خير الجزاء</a:t>
            </a:r>
            <a:br>
              <a:rPr sz="3200"/>
            </a:br>
            <a:r>
              <a:rPr b="0" lang="ar-SA" sz="4400" spc="-1" strike="noStrike">
                <a:solidFill>
                  <a:srgbClr val="ff3300"/>
                </a:solidFill>
                <a:latin typeface="Tahoma"/>
                <a:cs typeface="Monotype Koufi"/>
              </a:rPr>
              <a:t>من مصمم الباوربوينت</a:t>
            </a:r>
            <a:br>
              <a:rPr sz="4400"/>
            </a:br>
            <a:r>
              <a:rPr b="0" lang="ar-SA" sz="4400" spc="-1" strike="noStrike">
                <a:solidFill>
                  <a:srgbClr val="ff3300"/>
                </a:solidFill>
                <a:latin typeface="Tahoma"/>
                <a:cs typeface="Monotype Koufi"/>
              </a:rPr>
              <a:t>د.خالد أبو علي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ahoma"/>
                <a:ea typeface="Monotype Koufi"/>
              </a:rPr>
              <a:t>khaleddr3@hotmail.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36640"/>
            <a:ext cx="8305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موقع صيد الفوائد</a:t>
            </a:r>
            <a:r>
              <a:rPr b="0" lang="en-US" sz="40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   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Times New Roman"/>
                <a:ea typeface="Monotype Koufi"/>
                <a:hlinkClick r:id="rId1"/>
              </a:rPr>
              <a:t>http://www.saaid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موقع شعلان</a:t>
            </a:r>
            <a:r>
              <a:rPr b="0" lang="en-US" sz="40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       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Times New Roman"/>
                <a:ea typeface="Monotype Koufi"/>
                <a:hlinkClick r:id="rId2"/>
              </a:rPr>
              <a:t>http://www.shalaan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733920" y="1704960"/>
            <a:ext cx="4851360" cy="387756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 </a:t>
            </a:r>
            <a:r>
              <a:rPr b="0" lang="ar-SA" sz="40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ثم يرفع رأسه قائلاً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( </a:t>
            </a: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لله أكبر</a:t>
            </a:r>
            <a:r>
              <a:rPr b="0" lang="ar-SA" sz="4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، ويجلس بين السجدتين مفترشاً رجله اليسرى ناصباً رجله اليمنى </a:t>
            </a:r>
            <a:r>
              <a:rPr b="0" lang="ar-SA" sz="4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 أنظر صورة </a:t>
            </a:r>
            <a:r>
              <a:rPr b="0" lang="ar-SA" sz="4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11</a:t>
            </a:r>
            <a:r>
              <a:rPr b="0" lang="ar-SA" sz="4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]</a:t>
            </a:r>
            <a:r>
              <a:rPr b="0" lang="ar-SA" sz="4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2438640" cy="33530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1371600" y="380880"/>
            <a:ext cx="6477120" cy="28371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جلوس بين السجدتي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59F-5F41-4146-9056-070F70FEF31A}" type="slidenum">
              <a:t>30</a:t>
            </a:fld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095880" y="1752480"/>
            <a:ext cx="2438640" cy="33530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2406600" cy="33530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352680" y="1752480"/>
            <a:ext cx="2394000" cy="33530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1371600" y="380880"/>
            <a:ext cx="6477120" cy="28371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جلوس بين السجدتي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EC9-C8E2-4661-8E48-A7525017DEF4}" type="slidenum">
              <a:t>31</a:t>
            </a:fld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733920" y="1704960"/>
            <a:ext cx="4851360" cy="484668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يجب أن يقول وهو جالس بين السجدتين : ( </a:t>
            </a:r>
            <a:r>
              <a:rPr b="0" lang="ar-SA" sz="32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رب اغفر لي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مرة واحدة ، وما زاد على ذلك فهو سنة . </a:t>
            </a: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ويُسَن أن يقول : ( </a:t>
            </a:r>
            <a:r>
              <a:rPr b="0" lang="ar-SA" sz="32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رب اغفر لي وارحمني واهدني وعافني وارزقني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أبو داود وصححه الألباني في صفة صلاة النب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.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2438640" cy="33530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380880"/>
            <a:ext cx="6477120" cy="28371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جلوس بين السجدتي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E8B-49B3-479B-BB5C-D75833DF9E58}" type="slidenum">
              <a:t>32</a:t>
            </a:fld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876920" y="1704960"/>
            <a:ext cx="3860640" cy="393336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 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يضع يديه في هذه الجلسة على فخذيه ، وأطراف أصابعه عند ركبتيه ، 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 أنظر صورة 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12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]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وله أن يضع يده اليمنى على ركبته اليمنى ويده اليسرى على ركبته اليسرى ، كأنه قابض لهما ، 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 أنظر صورة 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13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]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427120" y="1752480"/>
            <a:ext cx="1992600" cy="33530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69720" y="1752480"/>
            <a:ext cx="2032200" cy="33530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43" name=""/>
          <p:cNvSpPr/>
          <p:nvPr/>
        </p:nvSpPr>
        <p:spPr>
          <a:xfrm>
            <a:off x="1371600" y="380880"/>
            <a:ext cx="6477120" cy="28371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جلوس بين السجدتي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6C2-80DF-45DD-8F1F-BD4FFB668B4F}" type="slidenum">
              <a:t>33</a:t>
            </a:fld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71600" y="380880"/>
            <a:ext cx="6477120" cy="28371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جلوس بين السجدتي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1704960"/>
            <a:ext cx="3861000" cy="411588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ar-SA" sz="44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ثم يسجد ويفعل في هذه السجدة ما فعل في السجدة الأولى 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69960" y="1752480"/>
            <a:ext cx="3444840" cy="3581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813-8592-4305-B641-FCB97C8196DB}" type="slidenum">
              <a:t>34</a:t>
            </a:fld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371600" y="380880"/>
            <a:ext cx="6477120" cy="1434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قيام للركعة الثان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781680" y="3124080"/>
            <a:ext cx="2057400" cy="26164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371600" cy="266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2438640" cy="266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762120" y="3124080"/>
            <a:ext cx="3444840" cy="2678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3657600" y="5562720"/>
            <a:ext cx="1066680" cy="0"/>
          </a:xfrm>
          <a:prstGeom prst="line">
            <a:avLst/>
          </a:prstGeom>
          <a:ln w="127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5562720"/>
            <a:ext cx="1066680" cy="0"/>
          </a:xfrm>
          <a:prstGeom prst="line">
            <a:avLst/>
          </a:prstGeom>
          <a:ln w="127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8610480" y="2666880"/>
            <a:ext cx="0" cy="990720"/>
          </a:xfrm>
          <a:prstGeom prst="line">
            <a:avLst/>
          </a:prstGeom>
          <a:ln w="1332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1360" y="1987560"/>
            <a:ext cx="6705360" cy="1373760"/>
          </a:xfrm>
          <a:prstGeom prst="rect">
            <a:avLst/>
          </a:prstGeom>
          <a:noFill/>
          <a:ln w="76320">
            <a:solidFill>
              <a:srgbClr val="f4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ـ ثم ينهض من السجود إلى الركعة الثانية معتمداً على ركبتيه ، 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Monotype Koufi"/>
              </a:rPr>
              <a:t>عكس صورة 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7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، قائلاً : ( </a:t>
            </a:r>
            <a:r>
              <a:rPr b="0" lang="ar-SA" sz="28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لله أكبر</a:t>
            </a:r>
            <a:r>
              <a:rPr b="0" lang="ar-SA" sz="28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777-F72C-42D4-AFB9-AFF7547492AE}" type="slidenum">
              <a:t>35</a:t>
            </a:fld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717640" y="1704960"/>
            <a:ext cx="6121440" cy="43603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ـ ثم يصلي الركعة الثانية كما صلى الركعة الأولى ، إلا أنه لا يقول دعاء الاستفتاح في أولها ، ولا يتعوذ قبل قراءته القرآن ، لأنه قد استفتح وتعوذ في بداية الركعة الأو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1785960" cy="3810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1371600" y="380880"/>
            <a:ext cx="6477120" cy="1434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قيام للركعة الثان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0F2-7917-4D14-95C9-601CFD6B8D21}" type="slidenum">
              <a:t>36</a:t>
            </a:fld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تشـــه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0600" y="1704960"/>
            <a:ext cx="3276720" cy="38167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*</a:t>
            </a:r>
            <a:r>
              <a:rPr b="0" lang="ar-SA" sz="4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ثم في نهاية الركعة الثانية يجلس للتشهد الأول مفترشاً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imes New Roman"/>
                <a:ea typeface="Monotype Koufi"/>
              </a:rPr>
              <a:t> [ أنظر صورة </a:t>
            </a:r>
            <a:r>
              <a:rPr b="0" lang="ar-SA" sz="3600" spc="-1" strike="noStrike">
                <a:solidFill>
                  <a:srgbClr val="3333cc"/>
                </a:solidFill>
                <a:latin typeface="Times New Roman"/>
                <a:ea typeface="Monotype Koufi"/>
              </a:rPr>
              <a:t>11</a:t>
            </a:r>
            <a:r>
              <a:rPr b="0" lang="ar-SA" sz="3600" spc="-1" strike="noStrike">
                <a:solidFill>
                  <a:srgbClr val="3333cc"/>
                </a:solidFill>
                <a:latin typeface="Times New Roman"/>
                <a:ea typeface="Monotype Koufi"/>
              </a:rPr>
              <a:t> ]</a:t>
            </a:r>
            <a:r>
              <a:rPr b="0" lang="ar-SA" sz="4000" spc="-1" strike="noStrike">
                <a:solidFill>
                  <a:srgbClr val="3333cc"/>
                </a:solidFill>
                <a:latin typeface="Times New Roman"/>
                <a:ea typeface="Monotype Kouf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2438640" cy="33530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B92-9C4C-4134-9F1C-6149BB0B924C}" type="slidenum">
              <a:t>37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تشـــه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438640" cy="33530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2406600" cy="33530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352680" y="1752480"/>
            <a:ext cx="2394000" cy="33530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1FA-4982-45D1-BE4C-3F86209D73CA}" type="slidenum">
              <a:t>38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تشـــه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48320" y="1704960"/>
            <a:ext cx="4190760" cy="48488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تكون هيئة يده اليمنى كما في الصورة : يقبض أصبعه الخنصر والبنصر ويُحلق الإبهام مع الوسطى ويشير بالسبابة عند الدعاء ( أي عند عبارة في التشهد فيها معنى الدعاء ) [ </a:t>
            </a:r>
            <a:r>
              <a:rPr b="0" lang="ar-SA" sz="24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أنظر صورة </a:t>
            </a:r>
            <a:r>
              <a:rPr b="0" lang="ar-SA" sz="2400" spc="-1" strike="noStrike">
                <a:solidFill>
                  <a:srgbClr val="3333cc"/>
                </a:solidFill>
                <a:latin typeface="Times New Roman"/>
                <a:ea typeface="Monotype Koufi"/>
              </a:rPr>
              <a:t>14</a:t>
            </a:r>
            <a:r>
              <a:rPr b="0" lang="ar-SA" sz="24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] أو يقبض جميع أصابع يده اليمنى ويشير بالسبابة عند الدعاء (</a:t>
            </a:r>
            <a:r>
              <a:rPr b="0" lang="ar-SA" sz="24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أنظر صورة</a:t>
            </a:r>
            <a:r>
              <a:rPr b="0" lang="ar-SA" sz="2400" spc="-1" strike="noStrike">
                <a:solidFill>
                  <a:srgbClr val="3333cc"/>
                </a:solidFill>
                <a:latin typeface="Times New Roman"/>
                <a:ea typeface="Monotype Koufi"/>
              </a:rPr>
              <a:t>15</a:t>
            </a:r>
            <a:r>
              <a:rPr b="0" lang="ar-SA" sz="2400" spc="-1" strike="noStrike">
                <a:solidFill>
                  <a:srgbClr val="3333cc"/>
                </a:solidFill>
                <a:latin typeface="Times New Roman"/>
                <a:ea typeface="Monotype Koufi"/>
              </a:rPr>
              <a:t>)</a:t>
            </a:r>
            <a:r>
              <a:rPr b="0" lang="ar-SA" sz="24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أما يده اليسرى فيقبض بها على ركبته اليسرى ، وله أن يبسطها على فخذه الأيسر دون قبض الركبة</a:t>
            </a:r>
            <a:r>
              <a:rPr b="0" lang="ar-SA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038480" cy="403884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7AD-00B0-41CC-9DC2-EC3D39F78AC9}" type="slidenum">
              <a:t>39</a:t>
            </a:fld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4521240" y="2286000"/>
            <a:ext cx="1981080" cy="1600200"/>
          </a:xfrm>
          <a:custGeom>
            <a:avLst/>
            <a:gdLst>
              <a:gd name="textAreaLeft" fmla="*/ 168120 w 1981080"/>
              <a:gd name="textAreaRight" fmla="*/ 1812960 w 1981080"/>
              <a:gd name="textAreaTop" fmla="*/ 168120 h 1600200"/>
              <a:gd name="textAreaBottom" fmla="*/ 1432080 h 1600200"/>
            </a:gdLst>
            <a:ahLst/>
            <a:rect l="textAreaLeft" t="textAreaTop" r="textAreaRight" b="textAreaBottom"/>
            <a:pathLst>
              <a:path w="26740" h="21600">
                <a:moveTo>
                  <a:pt x="0" y="0"/>
                </a:moveTo>
                <a:lnTo>
                  <a:pt x="26740" y="0"/>
                </a:lnTo>
                <a:lnTo>
                  <a:pt x="26740" y="21600"/>
                </a:lnTo>
                <a:lnTo>
                  <a:pt x="0" y="21600"/>
                </a:lnTo>
                <a:close/>
              </a:path>
              <a:path fill="lightenLess" w="26740" h="21600">
                <a:moveTo>
                  <a:pt x="0" y="0"/>
                </a:moveTo>
                <a:lnTo>
                  <a:pt x="26740" y="0"/>
                </a:lnTo>
                <a:lnTo>
                  <a:pt x="24469" y="2271"/>
                </a:lnTo>
                <a:lnTo>
                  <a:pt x="2271" y="2271"/>
                </a:lnTo>
                <a:close/>
              </a:path>
              <a:path fill="darken" w="26740" h="21600">
                <a:moveTo>
                  <a:pt x="26740" y="0"/>
                </a:moveTo>
                <a:lnTo>
                  <a:pt x="26740" y="21600"/>
                </a:lnTo>
                <a:lnTo>
                  <a:pt x="24469" y="19329"/>
                </a:lnTo>
                <a:lnTo>
                  <a:pt x="24469" y="2271"/>
                </a:lnTo>
                <a:close/>
              </a:path>
              <a:path fill="darkenLess" w="26740" h="21600">
                <a:moveTo>
                  <a:pt x="26740" y="21600"/>
                </a:moveTo>
                <a:lnTo>
                  <a:pt x="0" y="21600"/>
                </a:lnTo>
                <a:lnTo>
                  <a:pt x="2271" y="19329"/>
                </a:lnTo>
                <a:lnTo>
                  <a:pt x="24469" y="19329"/>
                </a:lnTo>
                <a:close/>
              </a:path>
              <a:path fill="lighten" w="26740" h="21600">
                <a:moveTo>
                  <a:pt x="0" y="21600"/>
                </a:moveTo>
                <a:lnTo>
                  <a:pt x="0" y="0"/>
                </a:lnTo>
                <a:lnTo>
                  <a:pt x="2271" y="2271"/>
                </a:lnTo>
                <a:lnTo>
                  <a:pt x="2271" y="193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جلو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بين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Monotype Kouf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سجدت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5943600"/>
            <a:ext cx="1295280" cy="762120"/>
          </a:xfrm>
          <a:custGeom>
            <a:avLst/>
            <a:gdLst>
              <a:gd name="textAreaLeft" fmla="*/ 190440 w 1295280"/>
              <a:gd name="textAreaRight" fmla="*/ 1104840 w 12952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1304" y="5400"/>
                </a:lnTo>
                <a:lnTo>
                  <a:pt x="5400" y="5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1304" y="16200"/>
                </a:lnTo>
                <a:lnTo>
                  <a:pt x="31304" y="5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1304" y="16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Monotype Koufi"/>
              </a:rPr>
              <a:t>خرو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584280" y="431640"/>
            <a:ext cx="1981080" cy="1600200"/>
          </a:xfrm>
          <a:custGeom>
            <a:avLst/>
            <a:gdLst>
              <a:gd name="textAreaLeft" fmla="*/ 168120 w 1981080"/>
              <a:gd name="textAreaRight" fmla="*/ 1812960 w 1981080"/>
              <a:gd name="textAreaTop" fmla="*/ 168120 h 1600200"/>
              <a:gd name="textAreaBottom" fmla="*/ 1432080 h 1600200"/>
            </a:gdLst>
            <a:ahLst/>
            <a:rect l="textAreaLeft" t="textAreaTop" r="textAreaRight" b="textAreaBottom"/>
            <a:pathLst>
              <a:path w="26740" h="21600">
                <a:moveTo>
                  <a:pt x="0" y="0"/>
                </a:moveTo>
                <a:lnTo>
                  <a:pt x="26740" y="0"/>
                </a:lnTo>
                <a:lnTo>
                  <a:pt x="26740" y="21600"/>
                </a:lnTo>
                <a:lnTo>
                  <a:pt x="0" y="21600"/>
                </a:lnTo>
                <a:close/>
              </a:path>
              <a:path fill="lightenLess" w="26740" h="21600">
                <a:moveTo>
                  <a:pt x="0" y="0"/>
                </a:moveTo>
                <a:lnTo>
                  <a:pt x="26740" y="0"/>
                </a:lnTo>
                <a:lnTo>
                  <a:pt x="24469" y="2271"/>
                </a:lnTo>
                <a:lnTo>
                  <a:pt x="2271" y="2271"/>
                </a:lnTo>
                <a:close/>
              </a:path>
              <a:path fill="darken" w="26740" h="21600">
                <a:moveTo>
                  <a:pt x="26740" y="0"/>
                </a:moveTo>
                <a:lnTo>
                  <a:pt x="26740" y="21600"/>
                </a:lnTo>
                <a:lnTo>
                  <a:pt x="24469" y="19329"/>
                </a:lnTo>
                <a:lnTo>
                  <a:pt x="24469" y="2271"/>
                </a:lnTo>
                <a:close/>
              </a:path>
              <a:path fill="darkenLess" w="26740" h="21600">
                <a:moveTo>
                  <a:pt x="26740" y="21600"/>
                </a:moveTo>
                <a:lnTo>
                  <a:pt x="0" y="21600"/>
                </a:lnTo>
                <a:lnTo>
                  <a:pt x="2271" y="19329"/>
                </a:lnTo>
                <a:lnTo>
                  <a:pt x="24469" y="19329"/>
                </a:lnTo>
                <a:close/>
              </a:path>
              <a:path fill="lighten" w="26740" h="21600">
                <a:moveTo>
                  <a:pt x="0" y="21600"/>
                </a:moveTo>
                <a:lnTo>
                  <a:pt x="0" y="0"/>
                </a:lnTo>
                <a:lnTo>
                  <a:pt x="2271" y="2271"/>
                </a:lnTo>
                <a:lnTo>
                  <a:pt x="2271" y="193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سج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6527880" y="431640"/>
            <a:ext cx="1981080" cy="1600200"/>
          </a:xfrm>
          <a:custGeom>
            <a:avLst/>
            <a:gdLst>
              <a:gd name="textAreaLeft" fmla="*/ 168120 w 1981080"/>
              <a:gd name="textAreaRight" fmla="*/ 1812960 w 1981080"/>
              <a:gd name="textAreaTop" fmla="*/ 168120 h 1600200"/>
              <a:gd name="textAreaBottom" fmla="*/ 1432080 h 1600200"/>
            </a:gdLst>
            <a:ahLst/>
            <a:rect l="textAreaLeft" t="textAreaTop" r="textAreaRight" b="textAreaBottom"/>
            <a:pathLst>
              <a:path w="26740" h="21600">
                <a:moveTo>
                  <a:pt x="0" y="0"/>
                </a:moveTo>
                <a:lnTo>
                  <a:pt x="26740" y="0"/>
                </a:lnTo>
                <a:lnTo>
                  <a:pt x="26740" y="21600"/>
                </a:lnTo>
                <a:lnTo>
                  <a:pt x="0" y="21600"/>
                </a:lnTo>
                <a:close/>
              </a:path>
              <a:path fill="lightenLess" w="26740" h="21600">
                <a:moveTo>
                  <a:pt x="0" y="0"/>
                </a:moveTo>
                <a:lnTo>
                  <a:pt x="26740" y="0"/>
                </a:lnTo>
                <a:lnTo>
                  <a:pt x="24469" y="2271"/>
                </a:lnTo>
                <a:lnTo>
                  <a:pt x="2271" y="2271"/>
                </a:lnTo>
                <a:close/>
              </a:path>
              <a:path fill="darken" w="26740" h="21600">
                <a:moveTo>
                  <a:pt x="26740" y="0"/>
                </a:moveTo>
                <a:lnTo>
                  <a:pt x="26740" y="21600"/>
                </a:lnTo>
                <a:lnTo>
                  <a:pt x="24469" y="19329"/>
                </a:lnTo>
                <a:lnTo>
                  <a:pt x="24469" y="2271"/>
                </a:lnTo>
                <a:close/>
              </a:path>
              <a:path fill="darkenLess" w="26740" h="21600">
                <a:moveTo>
                  <a:pt x="26740" y="21600"/>
                </a:moveTo>
                <a:lnTo>
                  <a:pt x="0" y="21600"/>
                </a:lnTo>
                <a:lnTo>
                  <a:pt x="2271" y="19329"/>
                </a:lnTo>
                <a:lnTo>
                  <a:pt x="24469" y="19329"/>
                </a:lnTo>
                <a:close/>
              </a:path>
              <a:path fill="lighten" w="26740" h="21600">
                <a:moveTo>
                  <a:pt x="0" y="21600"/>
                </a:moveTo>
                <a:lnTo>
                  <a:pt x="0" y="0"/>
                </a:lnTo>
                <a:lnTo>
                  <a:pt x="2271" y="2271"/>
                </a:lnTo>
                <a:lnTo>
                  <a:pt x="2271" y="193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افتتا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4521240" y="431640"/>
            <a:ext cx="1981080" cy="1600200"/>
          </a:xfrm>
          <a:custGeom>
            <a:avLst/>
            <a:gdLst>
              <a:gd name="textAreaLeft" fmla="*/ 168120 w 1981080"/>
              <a:gd name="textAreaRight" fmla="*/ 1812960 w 1981080"/>
              <a:gd name="textAreaTop" fmla="*/ 168120 h 1600200"/>
              <a:gd name="textAreaBottom" fmla="*/ 1432080 h 1600200"/>
            </a:gdLst>
            <a:ahLst/>
            <a:rect l="textAreaLeft" t="textAreaTop" r="textAreaRight" b="textAreaBottom"/>
            <a:pathLst>
              <a:path w="26740" h="21600">
                <a:moveTo>
                  <a:pt x="0" y="0"/>
                </a:moveTo>
                <a:lnTo>
                  <a:pt x="26740" y="0"/>
                </a:lnTo>
                <a:lnTo>
                  <a:pt x="26740" y="21600"/>
                </a:lnTo>
                <a:lnTo>
                  <a:pt x="0" y="21600"/>
                </a:lnTo>
                <a:close/>
              </a:path>
              <a:path fill="lightenLess" w="26740" h="21600">
                <a:moveTo>
                  <a:pt x="0" y="0"/>
                </a:moveTo>
                <a:lnTo>
                  <a:pt x="26740" y="0"/>
                </a:lnTo>
                <a:lnTo>
                  <a:pt x="24469" y="2271"/>
                </a:lnTo>
                <a:lnTo>
                  <a:pt x="2271" y="2271"/>
                </a:lnTo>
                <a:close/>
              </a:path>
              <a:path fill="darken" w="26740" h="21600">
                <a:moveTo>
                  <a:pt x="26740" y="0"/>
                </a:moveTo>
                <a:lnTo>
                  <a:pt x="26740" y="21600"/>
                </a:lnTo>
                <a:lnTo>
                  <a:pt x="24469" y="19329"/>
                </a:lnTo>
                <a:lnTo>
                  <a:pt x="24469" y="2271"/>
                </a:lnTo>
                <a:close/>
              </a:path>
              <a:path fill="darkenLess" w="26740" h="21600">
                <a:moveTo>
                  <a:pt x="26740" y="21600"/>
                </a:moveTo>
                <a:lnTo>
                  <a:pt x="0" y="21600"/>
                </a:lnTo>
                <a:lnTo>
                  <a:pt x="2271" y="19329"/>
                </a:lnTo>
                <a:lnTo>
                  <a:pt x="24469" y="19329"/>
                </a:lnTo>
                <a:close/>
              </a:path>
              <a:path fill="lighten" w="26740" h="21600">
                <a:moveTo>
                  <a:pt x="0" y="21600"/>
                </a:moveTo>
                <a:lnTo>
                  <a:pt x="0" y="0"/>
                </a:lnTo>
                <a:lnTo>
                  <a:pt x="2271" y="2271"/>
                </a:lnTo>
                <a:lnTo>
                  <a:pt x="2271" y="193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رك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2540160" y="431640"/>
            <a:ext cx="1981080" cy="1600200"/>
          </a:xfrm>
          <a:custGeom>
            <a:avLst/>
            <a:gdLst>
              <a:gd name="textAreaLeft" fmla="*/ 168120 w 1981080"/>
              <a:gd name="textAreaRight" fmla="*/ 1812960 w 1981080"/>
              <a:gd name="textAreaTop" fmla="*/ 168120 h 1600200"/>
              <a:gd name="textAreaBottom" fmla="*/ 1432080 h 1600200"/>
            </a:gdLst>
            <a:ahLst/>
            <a:rect l="textAreaLeft" t="textAreaTop" r="textAreaRight" b="textAreaBottom"/>
            <a:pathLst>
              <a:path w="26740" h="21600">
                <a:moveTo>
                  <a:pt x="0" y="0"/>
                </a:moveTo>
                <a:lnTo>
                  <a:pt x="26740" y="0"/>
                </a:lnTo>
                <a:lnTo>
                  <a:pt x="26740" y="21600"/>
                </a:lnTo>
                <a:lnTo>
                  <a:pt x="0" y="21600"/>
                </a:lnTo>
                <a:close/>
              </a:path>
              <a:path fill="lightenLess" w="26740" h="21600">
                <a:moveTo>
                  <a:pt x="0" y="0"/>
                </a:moveTo>
                <a:lnTo>
                  <a:pt x="26740" y="0"/>
                </a:lnTo>
                <a:lnTo>
                  <a:pt x="24469" y="2271"/>
                </a:lnTo>
                <a:lnTo>
                  <a:pt x="2271" y="2271"/>
                </a:lnTo>
                <a:close/>
              </a:path>
              <a:path fill="darken" w="26740" h="21600">
                <a:moveTo>
                  <a:pt x="26740" y="0"/>
                </a:moveTo>
                <a:lnTo>
                  <a:pt x="26740" y="21600"/>
                </a:lnTo>
                <a:lnTo>
                  <a:pt x="24469" y="19329"/>
                </a:lnTo>
                <a:lnTo>
                  <a:pt x="24469" y="2271"/>
                </a:lnTo>
                <a:close/>
              </a:path>
              <a:path fill="darkenLess" w="26740" h="21600">
                <a:moveTo>
                  <a:pt x="26740" y="21600"/>
                </a:moveTo>
                <a:lnTo>
                  <a:pt x="0" y="21600"/>
                </a:lnTo>
                <a:lnTo>
                  <a:pt x="2271" y="19329"/>
                </a:lnTo>
                <a:lnTo>
                  <a:pt x="24469" y="19329"/>
                </a:lnTo>
                <a:close/>
              </a:path>
              <a:path fill="lighten" w="26740" h="21600">
                <a:moveTo>
                  <a:pt x="0" y="21600"/>
                </a:moveTo>
                <a:lnTo>
                  <a:pt x="0" y="0"/>
                </a:lnTo>
                <a:lnTo>
                  <a:pt x="2271" y="2271"/>
                </a:lnTo>
                <a:lnTo>
                  <a:pt x="2271" y="193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رفع م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رك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286000"/>
            <a:ext cx="1981080" cy="1600200"/>
          </a:xfrm>
          <a:custGeom>
            <a:avLst/>
            <a:gdLst>
              <a:gd name="textAreaLeft" fmla="*/ 168120 w 1981080"/>
              <a:gd name="textAreaRight" fmla="*/ 1812960 w 1981080"/>
              <a:gd name="textAreaTop" fmla="*/ 168120 h 1600200"/>
              <a:gd name="textAreaBottom" fmla="*/ 1432080 h 1600200"/>
            </a:gdLst>
            <a:ahLst/>
            <a:rect l="textAreaLeft" t="textAreaTop" r="textAreaRight" b="textAreaBottom"/>
            <a:pathLst>
              <a:path w="26740" h="21600">
                <a:moveTo>
                  <a:pt x="0" y="0"/>
                </a:moveTo>
                <a:lnTo>
                  <a:pt x="26740" y="0"/>
                </a:lnTo>
                <a:lnTo>
                  <a:pt x="26740" y="21600"/>
                </a:lnTo>
                <a:lnTo>
                  <a:pt x="0" y="21600"/>
                </a:lnTo>
                <a:close/>
              </a:path>
              <a:path fill="lightenLess" w="26740" h="21600">
                <a:moveTo>
                  <a:pt x="0" y="0"/>
                </a:moveTo>
                <a:lnTo>
                  <a:pt x="26740" y="0"/>
                </a:lnTo>
                <a:lnTo>
                  <a:pt x="24469" y="2271"/>
                </a:lnTo>
                <a:lnTo>
                  <a:pt x="2271" y="2271"/>
                </a:lnTo>
                <a:close/>
              </a:path>
              <a:path fill="darken" w="26740" h="21600">
                <a:moveTo>
                  <a:pt x="26740" y="0"/>
                </a:moveTo>
                <a:lnTo>
                  <a:pt x="26740" y="21600"/>
                </a:lnTo>
                <a:lnTo>
                  <a:pt x="24469" y="19329"/>
                </a:lnTo>
                <a:lnTo>
                  <a:pt x="24469" y="2271"/>
                </a:lnTo>
                <a:close/>
              </a:path>
              <a:path fill="darkenLess" w="26740" h="21600">
                <a:moveTo>
                  <a:pt x="26740" y="21600"/>
                </a:moveTo>
                <a:lnTo>
                  <a:pt x="0" y="21600"/>
                </a:lnTo>
                <a:lnTo>
                  <a:pt x="2271" y="19329"/>
                </a:lnTo>
                <a:lnTo>
                  <a:pt x="24469" y="19329"/>
                </a:lnTo>
                <a:close/>
              </a:path>
              <a:path fill="lighten" w="26740" h="21600">
                <a:moveTo>
                  <a:pt x="0" y="21600"/>
                </a:moveTo>
                <a:lnTo>
                  <a:pt x="0" y="0"/>
                </a:lnTo>
                <a:lnTo>
                  <a:pt x="2271" y="2271"/>
                </a:lnTo>
                <a:lnTo>
                  <a:pt x="2271" y="193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قي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للركع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ث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8720" y="4114800"/>
            <a:ext cx="1981440" cy="1600200"/>
          </a:xfrm>
          <a:custGeom>
            <a:avLst/>
            <a:gdLst>
              <a:gd name="textAreaLeft" fmla="*/ 168120 w 1981440"/>
              <a:gd name="textAreaRight" fmla="*/ 1813320 w 1981440"/>
              <a:gd name="textAreaTop" fmla="*/ 168120 h 1600200"/>
              <a:gd name="textAreaBottom" fmla="*/ 1432080 h 1600200"/>
            </a:gdLst>
            <a:ahLst/>
            <a:rect l="textAreaLeft" t="textAreaTop" r="textAreaRight" b="textAreaBottom"/>
            <a:pathLst>
              <a:path w="26745" h="21600">
                <a:moveTo>
                  <a:pt x="0" y="0"/>
                </a:moveTo>
                <a:lnTo>
                  <a:pt x="26745" y="0"/>
                </a:lnTo>
                <a:lnTo>
                  <a:pt x="26745" y="21600"/>
                </a:lnTo>
                <a:lnTo>
                  <a:pt x="0" y="21600"/>
                </a:lnTo>
                <a:close/>
              </a:path>
              <a:path fill="lightenLess" w="26745" h="21600">
                <a:moveTo>
                  <a:pt x="0" y="0"/>
                </a:moveTo>
                <a:lnTo>
                  <a:pt x="26745" y="0"/>
                </a:lnTo>
                <a:lnTo>
                  <a:pt x="24474" y="2271"/>
                </a:lnTo>
                <a:lnTo>
                  <a:pt x="2271" y="2271"/>
                </a:lnTo>
                <a:close/>
              </a:path>
              <a:path fill="darken" w="26745" h="21600">
                <a:moveTo>
                  <a:pt x="26745" y="0"/>
                </a:moveTo>
                <a:lnTo>
                  <a:pt x="26745" y="21600"/>
                </a:lnTo>
                <a:lnTo>
                  <a:pt x="24474" y="19329"/>
                </a:lnTo>
                <a:lnTo>
                  <a:pt x="24474" y="2271"/>
                </a:lnTo>
                <a:close/>
              </a:path>
              <a:path fill="darkenLess" w="26745" h="21600">
                <a:moveTo>
                  <a:pt x="26745" y="21600"/>
                </a:moveTo>
                <a:lnTo>
                  <a:pt x="0" y="21600"/>
                </a:lnTo>
                <a:lnTo>
                  <a:pt x="2271" y="19329"/>
                </a:lnTo>
                <a:lnTo>
                  <a:pt x="24474" y="19329"/>
                </a:lnTo>
                <a:close/>
              </a:path>
              <a:path fill="lighten" w="26745" h="21600">
                <a:moveTo>
                  <a:pt x="0" y="21600"/>
                </a:moveTo>
                <a:lnTo>
                  <a:pt x="0" y="0"/>
                </a:lnTo>
                <a:lnTo>
                  <a:pt x="2271" y="2271"/>
                </a:lnTo>
                <a:lnTo>
                  <a:pt x="2271" y="193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خات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02320" y="4114800"/>
            <a:ext cx="1981440" cy="1600200"/>
          </a:xfrm>
          <a:custGeom>
            <a:avLst/>
            <a:gdLst>
              <a:gd name="textAreaLeft" fmla="*/ 168120 w 1981440"/>
              <a:gd name="textAreaRight" fmla="*/ 1813320 w 1981440"/>
              <a:gd name="textAreaTop" fmla="*/ 168120 h 1600200"/>
              <a:gd name="textAreaBottom" fmla="*/ 1432080 h 1600200"/>
            </a:gdLst>
            <a:ahLst/>
            <a:rect l="textAreaLeft" t="textAreaTop" r="textAreaRight" b="textAreaBottom"/>
            <a:pathLst>
              <a:path w="26745" h="21600">
                <a:moveTo>
                  <a:pt x="0" y="0"/>
                </a:moveTo>
                <a:lnTo>
                  <a:pt x="26745" y="0"/>
                </a:lnTo>
                <a:lnTo>
                  <a:pt x="26745" y="21600"/>
                </a:lnTo>
                <a:lnTo>
                  <a:pt x="0" y="21600"/>
                </a:lnTo>
                <a:close/>
              </a:path>
              <a:path fill="lightenLess" w="26745" h="21600">
                <a:moveTo>
                  <a:pt x="0" y="0"/>
                </a:moveTo>
                <a:lnTo>
                  <a:pt x="26745" y="0"/>
                </a:lnTo>
                <a:lnTo>
                  <a:pt x="24474" y="2271"/>
                </a:lnTo>
                <a:lnTo>
                  <a:pt x="2271" y="2271"/>
                </a:lnTo>
                <a:close/>
              </a:path>
              <a:path fill="darken" w="26745" h="21600">
                <a:moveTo>
                  <a:pt x="26745" y="0"/>
                </a:moveTo>
                <a:lnTo>
                  <a:pt x="26745" y="21600"/>
                </a:lnTo>
                <a:lnTo>
                  <a:pt x="24474" y="19329"/>
                </a:lnTo>
                <a:lnTo>
                  <a:pt x="24474" y="2271"/>
                </a:lnTo>
                <a:close/>
              </a:path>
              <a:path fill="darkenLess" w="26745" h="21600">
                <a:moveTo>
                  <a:pt x="26745" y="21600"/>
                </a:moveTo>
                <a:lnTo>
                  <a:pt x="0" y="21600"/>
                </a:lnTo>
                <a:lnTo>
                  <a:pt x="2271" y="19329"/>
                </a:lnTo>
                <a:lnTo>
                  <a:pt x="24474" y="19329"/>
                </a:lnTo>
                <a:close/>
              </a:path>
              <a:path fill="lighten" w="26745" h="21600">
                <a:moveTo>
                  <a:pt x="0" y="21600"/>
                </a:moveTo>
                <a:lnTo>
                  <a:pt x="0" y="0"/>
                </a:lnTo>
                <a:lnTo>
                  <a:pt x="2271" y="2271"/>
                </a:lnTo>
                <a:lnTo>
                  <a:pt x="2271" y="193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تشه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114800"/>
            <a:ext cx="1981440" cy="1600200"/>
          </a:xfrm>
          <a:custGeom>
            <a:avLst/>
            <a:gdLst>
              <a:gd name="textAreaLeft" fmla="*/ 168120 w 1981440"/>
              <a:gd name="textAreaRight" fmla="*/ 1813320 w 1981440"/>
              <a:gd name="textAreaTop" fmla="*/ 168120 h 1600200"/>
              <a:gd name="textAreaBottom" fmla="*/ 1432080 h 1600200"/>
            </a:gdLst>
            <a:ahLst/>
            <a:rect l="textAreaLeft" t="textAreaTop" r="textAreaRight" b="textAreaBottom"/>
            <a:pathLst>
              <a:path w="26745" h="21600">
                <a:moveTo>
                  <a:pt x="0" y="0"/>
                </a:moveTo>
                <a:lnTo>
                  <a:pt x="26745" y="0"/>
                </a:lnTo>
                <a:lnTo>
                  <a:pt x="26745" y="21600"/>
                </a:lnTo>
                <a:lnTo>
                  <a:pt x="0" y="21600"/>
                </a:lnTo>
                <a:close/>
              </a:path>
              <a:path fill="lightenLess" w="26745" h="21600">
                <a:moveTo>
                  <a:pt x="0" y="0"/>
                </a:moveTo>
                <a:lnTo>
                  <a:pt x="26745" y="0"/>
                </a:lnTo>
                <a:lnTo>
                  <a:pt x="24474" y="2271"/>
                </a:lnTo>
                <a:lnTo>
                  <a:pt x="2271" y="2271"/>
                </a:lnTo>
                <a:close/>
              </a:path>
              <a:path fill="darken" w="26745" h="21600">
                <a:moveTo>
                  <a:pt x="26745" y="0"/>
                </a:moveTo>
                <a:lnTo>
                  <a:pt x="26745" y="21600"/>
                </a:lnTo>
                <a:lnTo>
                  <a:pt x="24474" y="19329"/>
                </a:lnTo>
                <a:lnTo>
                  <a:pt x="24474" y="2271"/>
                </a:lnTo>
                <a:close/>
              </a:path>
              <a:path fill="darkenLess" w="26745" h="21600">
                <a:moveTo>
                  <a:pt x="26745" y="21600"/>
                </a:moveTo>
                <a:lnTo>
                  <a:pt x="0" y="21600"/>
                </a:lnTo>
                <a:lnTo>
                  <a:pt x="2271" y="19329"/>
                </a:lnTo>
                <a:lnTo>
                  <a:pt x="24474" y="19329"/>
                </a:lnTo>
                <a:close/>
              </a:path>
              <a:path fill="lighten" w="26745" h="21600">
                <a:moveTo>
                  <a:pt x="0" y="21600"/>
                </a:moveTo>
                <a:lnTo>
                  <a:pt x="0" y="0"/>
                </a:lnTo>
                <a:lnTo>
                  <a:pt x="2271" y="2271"/>
                </a:lnTo>
                <a:lnTo>
                  <a:pt x="2271" y="193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تسليمتي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1981080" cy="1600200"/>
          </a:xfrm>
          <a:custGeom>
            <a:avLst/>
            <a:gdLst>
              <a:gd name="textAreaLeft" fmla="*/ 168120 w 1981080"/>
              <a:gd name="textAreaRight" fmla="*/ 1812960 w 1981080"/>
              <a:gd name="textAreaTop" fmla="*/ 168120 h 1600200"/>
              <a:gd name="textAreaBottom" fmla="*/ 1432080 h 1600200"/>
            </a:gdLst>
            <a:ahLst/>
            <a:rect l="textAreaLeft" t="textAreaTop" r="textAreaRight" b="textAreaBottom"/>
            <a:pathLst>
              <a:path w="26740" h="21600">
                <a:moveTo>
                  <a:pt x="0" y="0"/>
                </a:moveTo>
                <a:lnTo>
                  <a:pt x="26740" y="0"/>
                </a:lnTo>
                <a:lnTo>
                  <a:pt x="26740" y="21600"/>
                </a:lnTo>
                <a:lnTo>
                  <a:pt x="0" y="21600"/>
                </a:lnTo>
                <a:close/>
              </a:path>
              <a:path fill="lightenLess" w="26740" h="21600">
                <a:moveTo>
                  <a:pt x="0" y="0"/>
                </a:moveTo>
                <a:lnTo>
                  <a:pt x="26740" y="0"/>
                </a:lnTo>
                <a:lnTo>
                  <a:pt x="24469" y="2271"/>
                </a:lnTo>
                <a:lnTo>
                  <a:pt x="2271" y="2271"/>
                </a:lnTo>
                <a:close/>
              </a:path>
              <a:path fill="darken" w="26740" h="21600">
                <a:moveTo>
                  <a:pt x="26740" y="0"/>
                </a:moveTo>
                <a:lnTo>
                  <a:pt x="26740" y="21600"/>
                </a:lnTo>
                <a:lnTo>
                  <a:pt x="24469" y="19329"/>
                </a:lnTo>
                <a:lnTo>
                  <a:pt x="24469" y="2271"/>
                </a:lnTo>
                <a:close/>
              </a:path>
              <a:path fill="darkenLess" w="26740" h="21600">
                <a:moveTo>
                  <a:pt x="26740" y="21600"/>
                </a:moveTo>
                <a:lnTo>
                  <a:pt x="0" y="21600"/>
                </a:lnTo>
                <a:lnTo>
                  <a:pt x="2271" y="19329"/>
                </a:lnTo>
                <a:lnTo>
                  <a:pt x="24469" y="19329"/>
                </a:lnTo>
                <a:close/>
              </a:path>
              <a:path fill="lighten" w="26740" h="21600">
                <a:moveTo>
                  <a:pt x="0" y="21600"/>
                </a:moveTo>
                <a:lnTo>
                  <a:pt x="0" y="0"/>
                </a:lnTo>
                <a:lnTo>
                  <a:pt x="2271" y="2271"/>
                </a:lnTo>
                <a:lnTo>
                  <a:pt x="2271" y="193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أذكار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  <a:ea typeface="Monotype Kouf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بعد الصل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80880"/>
            <a:ext cx="8001000" cy="5334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5EF-D11E-4D13-B7E9-287DF6EDD09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تشـــه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1704960"/>
            <a:ext cx="5105520" cy="41202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 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يقول في هذا الموضع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( </a:t>
            </a:r>
            <a:r>
              <a:rPr b="0" lang="ar-SA" sz="32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لتحيات لله والصلوات والطيبات ، السلام عليك أيها النبي ورحمة الله وبركاته ، السلام علينا وعلى عباد الله الصالحين أشهد أن لا إله إلا الله وأشهد أن محمداً عبده ورسوله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2716200" cy="373392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E73-CDF9-4900-8E37-6C7F4BCEFA39}" type="slidenum">
              <a:t>40</a:t>
            </a:fld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تشـــه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4120" y="1676520"/>
            <a:ext cx="3504960" cy="496836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 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إذا كانت الصلاة من أربع ركعات ، كالظهر والعصر والعشاء ، فإنه يجلس في التشهد الأخير متوركاً ،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 أنظر صورة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16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أو صورة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17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]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وتكون هيئة يديه كما سبق في التشهد الأو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743200" y="1701720"/>
            <a:ext cx="2362320" cy="365760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04920" y="1701720"/>
            <a:ext cx="2344680" cy="365760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E51-CA90-4856-88A9-B83B904C4490}" type="slidenum">
              <a:t>41</a:t>
            </a:fld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تشـــه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5040" y="1676520"/>
            <a:ext cx="7848720" cy="4736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يقول كما قال في التشهد الأ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( </a:t>
            </a:r>
            <a:r>
              <a:rPr b="0" lang="ar-SA" sz="3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لتحيات لله .... الخ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، ثم يقول بعد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( </a:t>
            </a:r>
            <a:r>
              <a:rPr b="0" lang="ar-SA" sz="36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لهم صلِّ على محمد وعلى آل محمد ، كما صليت على إبراهيم وعلى آل إبراهيم إنك حميد مجيد ، وبارك على محمد وعلى آل محمد كما باركت على إبراهيم وعلى آل إبراهيم إنك حميد مجيد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4CD-AB67-4508-8263-F7F46179466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تسليمتي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5040" y="1676520"/>
            <a:ext cx="7848720" cy="4205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30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يُسَن أن يقول بعد الصلاة على النبي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: </a:t>
            </a:r>
            <a:r>
              <a:rPr b="0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( 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3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للهم إني أعوذ بك من عذاب جهنم ، وعذاب القبر ، ومن فتنة المحيا والممات ، ومن فتنة المسيح الدجال</a:t>
            </a:r>
            <a:r>
              <a:rPr b="0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)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cs typeface="Times New Roman"/>
              </a:rPr>
              <a:t>متفق علي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000"/>
            </a:b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ثم يدعو بما شاء ، كقول ( </a:t>
            </a:r>
            <a:r>
              <a:rPr b="0" lang="ar-SA" sz="3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اللهم أعني على ذكرك وشكرك وحسن عبادتك</a:t>
            </a:r>
            <a:r>
              <a:rPr b="0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أبو داود وصححه الألباني في صفة صلاة النب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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30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ثم يسلم عن يمينه ( </a:t>
            </a:r>
            <a:r>
              <a:rPr b="0" lang="ar-SA" sz="3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لسلام عليكم ورحمة الله</a:t>
            </a:r>
            <a:r>
              <a:rPr b="0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وعن يساره كذلك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63E-6767-415A-8392-D1BC6E9FF74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1600200"/>
            <a:ext cx="8305920" cy="49482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* ثم يقول الأذكار الواردة بعد السلام كقول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( </a:t>
            </a:r>
            <a:r>
              <a:rPr b="1" lang="ar-SA" sz="24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ستغفر الله ، أستغفر الله ، أستغفر الله ، اللهم أنت السلام ومنك السلام تباركت ياذا الجلال والإكرام</a:t>
            </a:r>
            <a:r>
              <a:rPr b="1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cs typeface="Times New Roman"/>
              </a:rPr>
              <a:t>رواه مسل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600"/>
            </a:br>
            <a:r>
              <a:rPr b="1" lang="ar-SA" sz="26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قول : (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لا إله إلا الله وحده لا شريك له ، له الملك وله الحمد وهو على كل شيء قدير ، اللهم لا مانع لما أعطيت ولا معطي لما منعت ولا ينفع ذا الـجَد منك الـجَد</a:t>
            </a:r>
            <a:r>
              <a:rPr b="1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)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متفق علي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قول ( </a:t>
            </a:r>
            <a:r>
              <a:rPr b="1" lang="ar-SA" sz="24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لا إله إلا الله وحده لا شريك له ، له الملك وله الحمد وهو على كل شيء قدير ، لا إله إلا الله ولا نعبد إلا إياه ، له النعمة وله الفضل وله الثناء الحسن ، لا إله الله مخلصين له الدين ولو كره الكافرون</a:t>
            </a:r>
            <a:r>
              <a:rPr b="1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مسلم.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380880"/>
            <a:ext cx="6477120" cy="28371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أذكار بعد ال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260-81DA-4073-A687-DFB1F7E0885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57200" y="1600200"/>
            <a:ext cx="8305920" cy="5157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ثم يقول : ( </a:t>
            </a:r>
            <a:r>
              <a:rPr b="1" lang="ar-SA" sz="3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سبحان الله والحمد لله والله أكبر</a:t>
            </a:r>
            <a:r>
              <a:rPr b="1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(</a:t>
            </a:r>
            <a:r>
              <a:rPr b="1" lang="ar-SA" sz="3000" spc="-1" strike="noStrike">
                <a:solidFill>
                  <a:srgbClr val="3333cc"/>
                </a:solidFill>
                <a:latin typeface="Times New Roman"/>
                <a:ea typeface="Monotype Koufi"/>
              </a:rPr>
              <a:t>33</a:t>
            </a:r>
            <a:r>
              <a:rPr b="1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) مرة ، ويقول بعدها مرة واحدة ( </a:t>
            </a:r>
            <a:r>
              <a:rPr b="1" lang="ar-SA" sz="30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لا إله إلا الله وحده لا شريك له ، له الملك وله الحمد ، وهو على كل شيء قدير</a:t>
            </a:r>
            <a:r>
              <a:rPr b="1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</a:t>
            </a:r>
            <a:r>
              <a:rPr b="1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cs typeface="Times New Roman"/>
              </a:rPr>
              <a:t>رواه مسل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. </a:t>
            </a:r>
            <a:br>
              <a:rPr sz="3600"/>
            </a:br>
            <a:r>
              <a:rPr b="1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* ويقرأ </a:t>
            </a:r>
            <a:r>
              <a:rPr b="1" lang="ar-SA" sz="3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آية الكرسي</a:t>
            </a:r>
            <a:r>
              <a:rPr b="1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.</a:t>
            </a:r>
            <a:r>
              <a:rPr b="1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النسائي في عمل اليوم والليلة وصححه الألباني في السلسة الصحيح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سورة { </a:t>
            </a:r>
            <a:r>
              <a:rPr b="1" lang="ar-SA" sz="3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قل هو الله أحد</a:t>
            </a:r>
            <a:r>
              <a:rPr b="1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} ، و { </a:t>
            </a:r>
            <a:r>
              <a:rPr b="1" lang="ar-SA" sz="3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قل أعوذ برب الفلق</a:t>
            </a:r>
            <a:r>
              <a:rPr b="1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} ، و { </a:t>
            </a:r>
            <a:r>
              <a:rPr b="1" lang="ar-SA" sz="3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قل أعوذ برب الناس</a:t>
            </a:r>
            <a:r>
              <a:rPr b="1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}</a:t>
            </a:r>
            <a:r>
              <a:rPr b="1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أبو داود وصححه الألباني في صحيح أبي دا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380880"/>
            <a:ext cx="6477120" cy="28371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أذكار بعد ال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CBC-1204-4CB8-9672-0FD4AA75ED4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1600200"/>
            <a:ext cx="8305920" cy="387756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ينبغي على المسلم المحافظة على صلاة الجماعة في المسجد وعدم التهاون في ذلك ، ليكون من المفلحين إن شاء الله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ff"/>
                </a:solidFill>
                <a:latin typeface="Times New Roman"/>
                <a:cs typeface="Monotype Koufi"/>
              </a:rPr>
              <a:t>والله أعلم وصلى الله وسلم على نبينا محمد وعلى آله وصحبه أجمعين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380880"/>
            <a:ext cx="6477120" cy="19227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لخاتم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117-431F-4102-89A9-827D1CCEAA1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38080" y="304812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لطباعة المادة العلمية برجاء مراجع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380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endshow"/>
          </p:cNvPr>
          <p:cNvSpPr/>
          <p:nvPr/>
        </p:nvSpPr>
        <p:spPr>
          <a:xfrm>
            <a:off x="3962520" y="5943600"/>
            <a:ext cx="1295280" cy="762120"/>
          </a:xfrm>
          <a:custGeom>
            <a:avLst/>
            <a:gdLst>
              <a:gd name="textAreaLeft" fmla="*/ 190440 w 1295280"/>
              <a:gd name="textAreaRight" fmla="*/ 1104840 w 12952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1304" y="5400"/>
                </a:lnTo>
                <a:lnTo>
                  <a:pt x="5400" y="5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1304" y="16200"/>
                </a:lnTo>
                <a:lnTo>
                  <a:pt x="31304" y="5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1304" y="16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Monotype Koufi"/>
              </a:rPr>
              <a:t>خرو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1219320" y="6019920"/>
            <a:ext cx="761760" cy="533160"/>
          </a:xfrm>
          <a:custGeom>
            <a:avLst/>
            <a:gdLst>
              <a:gd name="textAreaLeft" fmla="*/ 133200 w 761760"/>
              <a:gd name="textAreaRight" fmla="*/ 628560 w 7617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5455" y="5400"/>
                </a:lnTo>
                <a:lnTo>
                  <a:pt x="5400" y="5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5455" y="16200"/>
                </a:lnTo>
                <a:lnTo>
                  <a:pt x="25455" y="5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55" y="16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55" h="21600">
                <a:moveTo>
                  <a:pt x="11403" y="10800"/>
                </a:moveTo>
                <a:lnTo>
                  <a:pt x="19453" y="6775"/>
                </a:lnTo>
                <a:lnTo>
                  <a:pt x="19453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3946680"/>
            <a:ext cx="8305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موقع صيد الفوائد</a:t>
            </a:r>
            <a:r>
              <a:rPr b="0" lang="en-US" sz="40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    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Times New Roman"/>
                <a:ea typeface="Monotype Koufi"/>
                <a:hlinkClick r:id="rId2"/>
              </a:rPr>
              <a:t>http://www.saaid.n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موقع شعلان</a:t>
            </a:r>
            <a:r>
              <a:rPr b="0" lang="en-US" sz="40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       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Times New Roman"/>
                <a:ea typeface="Monotype Koufi"/>
                <a:hlinkClick r:id="rId3"/>
              </a:rPr>
              <a:t>http://www.shalaan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289080"/>
            <a:ext cx="6705360" cy="2557440"/>
          </a:xfrm>
          <a:prstGeom prst="rect">
            <a:avLst/>
          </a:prstGeom>
          <a:noFill/>
          <a:ln w="0">
            <a:noFill/>
          </a:ln>
          <a:effectLst>
            <a:outerShdw dist="63504" dir="1301609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لباور بوينت من تصم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د.خالد أبو عل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Khaleddr3@hotmail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2895480"/>
            <a:ext cx="7848720" cy="0"/>
          </a:xfrm>
          <a:prstGeom prst="line">
            <a:avLst/>
          </a:prstGeom>
          <a:ln w="76320">
            <a:solidFill>
              <a:srgbClr val="f4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957-2EAC-42C8-AC02-4656C13F10C5}" type="slidenum">
              <a:t>47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65160" y="355680"/>
            <a:ext cx="7315200" cy="1434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ستقبال القبلة وتكبيرة الإحـــــر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98880" y="1523880"/>
            <a:ext cx="5486400" cy="412668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إذا أراد المسلم أن يصلي فإنه يستقبل القبلة ثم يقول ( </a:t>
            </a:r>
            <a:r>
              <a:rPr b="0" lang="ar-SA" sz="27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لله أكبر</a:t>
            </a:r>
            <a:r>
              <a:rPr b="0" lang="ar-SA" sz="27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وهي ركن لا تنعقد الصلاة إلا بها ، لقوله</a:t>
            </a:r>
            <a:r>
              <a:rPr b="0" lang="en-US" sz="27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6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</a:t>
            </a:r>
            <a:r>
              <a:rPr b="0" lang="en-US" sz="27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: ( </a:t>
            </a:r>
            <a:r>
              <a:rPr b="0" lang="ar-SA" sz="27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إذا قمت إلى الصلاة فأسبغ الوضوء ، ثم استقبل القبلة فكبر</a:t>
            </a:r>
            <a:r>
              <a:rPr b="0" lang="ar-SA" sz="27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r>
              <a:rPr b="0" lang="ar-SA" sz="27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متفق عليه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ـ ولا بد من قولها باللسان ، ولا يشترط أن يرفع صوته بها</a:t>
            </a:r>
            <a:r>
              <a:rPr b="0" lang="en-US" sz="27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ـ إذا كان الإنسان أخرس فإنه ينويها بقلبه</a:t>
            </a:r>
            <a:r>
              <a:rPr b="0" lang="en-US" sz="27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1549440"/>
            <a:ext cx="2138400" cy="4114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0A4-B92E-4899-8AC0-3E6485AFC6A3}" type="slidenum">
              <a:t>5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65160" y="355680"/>
            <a:ext cx="7315200" cy="1434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ستقبال القبلة وتكبيرة الإحـــــر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98880" y="1523880"/>
            <a:ext cx="5486400" cy="452016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30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يُسَن أن يرفع يديه عند التكبير إلى منكبيه وتكون مضمومتي الأصاب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 </a:t>
            </a:r>
            <a:r>
              <a:rPr b="0" lang="ar-SA" sz="3000" spc="-1" strike="noStrike">
                <a:solidFill>
                  <a:srgbClr val="0000ff"/>
                </a:solidFill>
                <a:latin typeface="Times New Roman"/>
                <a:cs typeface="Monotype Koufi"/>
              </a:rPr>
              <a:t>أنظر صورة </a:t>
            </a:r>
            <a:r>
              <a:rPr b="0" lang="ar-SA" sz="3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1</a:t>
            </a:r>
            <a:r>
              <a:rPr b="0" lang="ar-SA" sz="3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]</a:t>
            </a:r>
            <a:r>
              <a:rPr b="0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لقول ابن عمر رضي الله عنه</a:t>
            </a:r>
            <a:r>
              <a:rPr b="0" lang="ar-SA" sz="32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( </a:t>
            </a:r>
            <a:r>
              <a:rPr b="0" lang="ar-SA" sz="3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أن النبي</a:t>
            </a:r>
            <a:r>
              <a:rPr b="0" lang="en-US" sz="30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6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</a:t>
            </a:r>
            <a:r>
              <a:rPr b="0" lang="ar-SA" sz="30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كان يرفع يديه حذو منكبيه إذا افتتح الصلاة ، وإذا كبر للركوع ، وإذا رفع رأسه من الركوع</a:t>
            </a:r>
            <a:r>
              <a:rPr b="0" lang="ar-SA" sz="30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30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) </a:t>
            </a:r>
            <a:r>
              <a:rPr b="0" lang="ar-SA" sz="30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متفق علي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</a:t>
            </a:r>
            <a:r>
              <a:rPr b="0" lang="ar-SA" sz="3000" spc="-1" strike="noStrike">
                <a:solidFill>
                  <a:srgbClr val="0000ff"/>
                </a:solidFill>
                <a:latin typeface="Times New Roman"/>
                <a:cs typeface="Monotype Koufi"/>
              </a:rPr>
              <a:t>أنظر صورة </a:t>
            </a:r>
            <a:r>
              <a:rPr b="0" lang="ar-SA" sz="3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1</a:t>
            </a:r>
            <a:r>
              <a:rPr b="0" lang="ar-SA" sz="30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1549440"/>
            <a:ext cx="2138400" cy="4114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FE7-3EFF-4D1C-8865-630367E8C878}" type="slidenum">
              <a:t>6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1549440"/>
            <a:ext cx="2170080" cy="411480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965160" y="355680"/>
            <a:ext cx="7315200" cy="1434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ستقبال القبلة وتكبيرة الإحـــــر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523880"/>
            <a:ext cx="5486400" cy="406116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أو يرفعهما بمحاذاة أذنيه ، لحديث مالك بن الحويرث رضي الله عنه ( </a:t>
            </a:r>
            <a:r>
              <a:rPr b="0" lang="ar-SA" sz="3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أن رسول الله</a:t>
            </a:r>
            <a:r>
              <a:rPr b="0" lang="en-US" sz="36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6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</a:t>
            </a:r>
            <a:r>
              <a:rPr b="0" lang="ar-SA" sz="3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كان إذا كبر رفع يديه حتى يحاذي بهما أذنيه</a:t>
            </a:r>
            <a:r>
              <a:rPr b="0" lang="ar-SA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r>
              <a:rPr b="0" lang="ar-SA" sz="36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مسل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  <a:cs typeface="Monotype Koufi"/>
              </a:rPr>
              <a:t>أنظر صورة 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2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]</a:t>
            </a:r>
            <a:r>
              <a:rPr b="0" lang="en-US" sz="3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DE3-FD71-4A8D-9A5F-0AB5218F4362}" type="slidenum">
              <a:t>7</a:t>
            </a:fld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549440"/>
            <a:ext cx="2133360" cy="411480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965160" y="355680"/>
            <a:ext cx="7315200" cy="1434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ستقبال القبلة وتكبيرة الإحـــــر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1523880"/>
            <a:ext cx="6273720" cy="494244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ثم يقبض كوع يده اليسرى بيده اليمنى ويضعهما على صدره </a:t>
            </a:r>
            <a:r>
              <a:rPr b="0" lang="ar-SA" sz="18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النسائي وصححه الألباني في صفة صلاة النبي</a:t>
            </a:r>
            <a:r>
              <a:rPr b="0" lang="en-US" sz="18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</a:t>
            </a:r>
            <a:r>
              <a:rPr b="0" lang="ar-SA" sz="2600" spc="-1" strike="noStrike">
                <a:solidFill>
                  <a:srgbClr val="0000ff"/>
                </a:solidFill>
                <a:latin typeface="Times New Roman"/>
                <a:cs typeface="Monotype Koufi"/>
              </a:rPr>
              <a:t>أنظر صورة </a:t>
            </a:r>
            <a:r>
              <a:rPr b="0" lang="ar-SA" sz="2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3</a:t>
            </a:r>
            <a:r>
              <a:rPr b="0" lang="ar-SA" sz="2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]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، أو يضع يده اليمنى على كفه وذراعه الأيسر ويضعهما على صدره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[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</a:t>
            </a:r>
            <a:r>
              <a:rPr b="0" lang="ar-SA" sz="2600" spc="-1" strike="noStrike">
                <a:solidFill>
                  <a:srgbClr val="0000ff"/>
                </a:solidFill>
                <a:latin typeface="Times New Roman"/>
                <a:cs typeface="Monotype Koufi"/>
              </a:rPr>
              <a:t>أنظر صورة </a:t>
            </a:r>
            <a:r>
              <a:rPr b="0" lang="ar-SA" sz="2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4</a:t>
            </a:r>
            <a:r>
              <a:rPr b="0" lang="ar-SA" sz="2600" spc="-1" strike="noStrike">
                <a:solidFill>
                  <a:srgbClr val="0000ff"/>
                </a:solidFill>
                <a:latin typeface="Times New Roman"/>
                <a:ea typeface="Monotype Koufi"/>
              </a:rPr>
              <a:t> ]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، لحديث وائل ابن حُجر( </a:t>
            </a:r>
            <a:r>
              <a:rPr b="0" lang="ar-SA" sz="2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فكبر– أي النبي</a:t>
            </a:r>
            <a:r>
              <a:rPr b="0" lang="en-US" sz="26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6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 – </a:t>
            </a:r>
            <a:r>
              <a:rPr b="0" lang="ar-SA" sz="2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ثم وضع يده اليمنى على ظهر كفه الأيسر والرسغ والساعد)</a:t>
            </a:r>
            <a:r>
              <a:rPr b="0" lang="ar-SA" sz="26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r>
              <a:rPr b="0" lang="ar-SA" sz="18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أبو داود وصححه الألباني في صفة صلاة النبي</a:t>
            </a:r>
            <a:r>
              <a:rPr b="0" lang="en-US" sz="18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7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6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لحديث وائل : (</a:t>
            </a:r>
            <a:r>
              <a:rPr b="0" lang="ar-SA" sz="26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كان يضعهما على صدره) </a:t>
            </a:r>
            <a:r>
              <a:rPr b="0" lang="ar-SA" sz="18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ابن خزيمة وصححه الألباني في صفة صلاة النبي</a:t>
            </a:r>
            <a:r>
              <a:rPr b="0" lang="en-US" sz="26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7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EF3-6981-4F7E-A65F-64AE288D6484}" type="slidenum">
              <a:t>8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1574640"/>
            <a:ext cx="2133720" cy="4191120"/>
          </a:xfrm>
          <a:prstGeom prst="rect">
            <a:avLst/>
          </a:prstGeom>
          <a:ln w="76320">
            <a:solidFill>
              <a:srgbClr val="f40c33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965160" y="355680"/>
            <a:ext cx="7315200" cy="1434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ستقبال القبلة وتكبيرة الإحـــــر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1523880"/>
            <a:ext cx="6324480" cy="420876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onotype Koufi"/>
              </a:rPr>
              <a:t>*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وينظر إلى موضع سجوده ، لقول عائشة رضي الله عنها عن صلاته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GA Arabesque"/>
                <a:ea typeface="AGA Arabesque"/>
              </a:rPr>
              <a:t>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: </a:t>
            </a:r>
            <a:r>
              <a:rPr b="0" lang="ar-SA" sz="24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( </a:t>
            </a:r>
            <a:r>
              <a:rPr b="0" lang="ar-SA" sz="24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ما خَلّف بَصرهُ موضعَ سجوده</a:t>
            </a:r>
            <a:r>
              <a:rPr b="0" lang="ar-SA" sz="24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) </a:t>
            </a:r>
            <a:r>
              <a:rPr b="0" lang="ar-SA" sz="18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البيهقي وصححه الألباني في صفة صلاة النبي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Monotype Kouf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7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br>
              <a:rPr sz="2700"/>
            </a:br>
            <a:r>
              <a:rPr b="0" lang="en-US" sz="2400" spc="-1" strike="noStrike">
                <a:solidFill>
                  <a:srgbClr val="f40c33"/>
                </a:solidFill>
                <a:latin typeface="Times New Roman"/>
                <a:ea typeface="Monotype Koufi"/>
              </a:rPr>
              <a:t>*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ثم يقرأ دعاء الاستفتاح ، وهو سنة ، وأدعية الاستفتاح كثيرة ، منها : ( </a:t>
            </a:r>
            <a:r>
              <a:rPr b="0" lang="ar-SA" sz="24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سبحانك اللهم وبحمدك ، وتبارك اسمك ، وتعالى جدك ، ولا إله غيرك</a:t>
            </a:r>
            <a:r>
              <a:rPr b="0" lang="ar-SA" sz="24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r>
              <a:rPr b="0" lang="ar-SA" sz="18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أبو داود وصححه الألباني في صفة صلاة النب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en-US" sz="27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</a:t>
            </a:r>
            <a:br>
              <a:rPr sz="2700"/>
            </a:br>
            <a:r>
              <a:rPr b="0" lang="ar-SA" sz="2400" spc="-1" strike="noStrike">
                <a:solidFill>
                  <a:srgbClr val="000080"/>
                </a:solidFill>
                <a:latin typeface="Times New Roman"/>
                <a:cs typeface="Monotype Koufi"/>
              </a:rPr>
              <a:t>أو يقول : ( </a:t>
            </a:r>
            <a:r>
              <a:rPr b="0" lang="ar-SA" sz="2400" spc="-1" strike="noStrike">
                <a:solidFill>
                  <a:srgbClr val="f40c33"/>
                </a:solidFill>
                <a:latin typeface="Times New Roman"/>
                <a:cs typeface="Monotype Koufi"/>
              </a:rPr>
              <a:t>اللهم باعد بيني وبين خطاياي كما باعدت بين المشرق والمغرب ، اللهم نقني من خطاياي كما يُنقى الثوب الأبيض من الدنس ، اللهم اغسلني بالماء والثلج والبَرَد</a:t>
            </a:r>
            <a:r>
              <a:rPr b="0" lang="ar-SA" sz="2400" spc="-1" strike="noStrike">
                <a:solidFill>
                  <a:srgbClr val="000080"/>
                </a:solidFill>
                <a:latin typeface="Times New Roman"/>
                <a:ea typeface="Monotype Koufi"/>
              </a:rPr>
              <a:t> ) </a:t>
            </a:r>
            <a:r>
              <a:rPr b="0" lang="ar-SA" sz="2400" spc="-1" strike="noStrike">
                <a:solidFill>
                  <a:srgbClr val="ff00ff"/>
                </a:solidFill>
                <a:latin typeface="Times New Roman"/>
                <a:cs typeface="Monotype Koufi"/>
              </a:rPr>
              <a:t>رواه البخار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2286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20574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6775"/>
                </a:moveTo>
                <a:lnTo>
                  <a:pt x="19449" y="10800"/>
                </a:lnTo>
                <a:lnTo>
                  <a:pt x="1139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62120" cy="533520"/>
          </a:xfrm>
          <a:custGeom>
            <a:avLst/>
            <a:gdLst>
              <a:gd name="textAreaLeft" fmla="*/ 133200 w 762120"/>
              <a:gd name="textAreaRight" fmla="*/ 62892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5449" y="5400"/>
                </a:lnTo>
                <a:lnTo>
                  <a:pt x="5400" y="5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5449" y="16200"/>
                </a:lnTo>
                <a:lnTo>
                  <a:pt x="25449" y="5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5449" y="16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0849" h="21600">
                <a:moveTo>
                  <a:pt x="11399" y="10800"/>
                </a:moveTo>
                <a:lnTo>
                  <a:pt x="19449" y="6775"/>
                </a:lnTo>
                <a:lnTo>
                  <a:pt x="19449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111-B85C-4134-9123-82F15744B68D}" type="slidenum">
              <a:t>9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23:00:42Z</dcterms:created>
  <dc:creator>Nada</dc:creator>
  <dc:description/>
  <dc:language>en-US</dc:language>
  <cp:lastModifiedBy>***</cp:lastModifiedBy>
  <dcterms:modified xsi:type="dcterms:W3CDTF">2002-11-24T02:48:02Z</dcterms:modified>
  <cp:revision>39</cp:revision>
  <dc:subject/>
  <dc:title>الدين المعاملة</dc:title>
</cp:coreProperties>
</file>