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PROJCTOR.WAV" ContentType="audio/x-wav"/>
  <Override PartName="/ppt/media/image7.jpeg" ContentType="image/jpeg"/>
  <Override PartName="/ppt/media/TYP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436-E0D4-41EB-9CAB-8A89803C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504-A7F3-480D-8FE0-89191DF7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5D9-7BA2-4812-9768-714B4EC2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7CB-22BD-4B19-BF82-3C558338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9C3-226F-46B8-9D03-6232D406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B25-15EB-4A31-AAA9-7CECF191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72C-F48B-4130-B614-7659D924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47B-B092-461E-820E-6E7C49FE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39E-C2A1-44E8-825D-AF2D66CE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C66-CC84-4525-9574-0BE8225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1B3-7B80-4D28-BE39-E93A5F86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AFF-5799-4580-953D-7BC9FCD2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26B8-54FF-4B51-9D37-F442C2ABC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0517"/>
            </a:gs>
            <a:gs pos="100000">
              <a:srgbClr val="f40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65240" dir="108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صفة الوضوء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1704960"/>
            <a:ext cx="4648320" cy="570276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80"/>
                </a:solidFill>
                <a:latin typeface="Tahoma"/>
                <a:cs typeface="Monotype Koufi"/>
              </a:rPr>
              <a:t>والشعر الذي في الوجه إن كان خفيفاً فيجب غسله وما تحته من البشرة ، وإن كان كثيفاً وجب غسل ظاهره ، لكن يُستحب تخليل الشعر الكثيف ، </a:t>
            </a:r>
            <a:r>
              <a:rPr b="1" lang="hi-IN" sz="3000" spc="-1" strike="noStrike">
                <a:solidFill>
                  <a:srgbClr val="f40c33"/>
                </a:solidFill>
                <a:latin typeface="Tahoma"/>
                <a:cs typeface="Monotype Koufi"/>
              </a:rPr>
              <a:t>لأنه صلى الله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40c33"/>
                </a:solidFill>
                <a:latin typeface="Tahoma"/>
                <a:cs typeface="Monotype Koufi"/>
              </a:rPr>
              <a:t>عليه وسلم كان يخلل لحيته في الوضوء</a:t>
            </a:r>
            <a:r>
              <a:rPr b="1" lang="en-US" sz="3000" spc="-1" strike="noStrike">
                <a:solidFill>
                  <a:srgbClr val="000080"/>
                </a:solidFill>
                <a:latin typeface="Tahoma"/>
                <a:ea typeface="Monotype Koufi"/>
              </a:rPr>
              <a:t> </a:t>
            </a:r>
            <a:r>
              <a:rPr b="1" lang="hi-IN" sz="30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أبو داود وصححه الألباني في الإرواء (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  <a:ea typeface="Monotype Koufi"/>
              </a:rPr>
              <a:t>92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  <a:ea typeface="Monotype Koufi"/>
              </a:rPr>
              <a:t>) أنظر صورة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  <a:ea typeface="Monotype Koufi"/>
              </a:rPr>
              <a:t>4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  <a:ea typeface="Monotype Koufi"/>
              </a:rPr>
              <a:t>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Wadoo4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3353040" cy="38102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D51-4DA3-4D06-BB9B-EEF7E028A1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704960"/>
            <a:ext cx="4191120" cy="504036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ـ 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cs typeface="Monotype Koufi"/>
              </a:rPr>
              <a:t>ثم يغسل يديه مع المرفقين ، لقوله تعالى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{</a:t>
            </a:r>
            <a:r>
              <a:rPr b="1" lang="ar-SA" sz="3600" spc="-1" strike="noStrike">
                <a:solidFill>
                  <a:srgbClr val="f40c33"/>
                </a:solidFill>
                <a:latin typeface="Tahoma"/>
                <a:cs typeface="Monotype Koufi"/>
              </a:rPr>
              <a:t>وأيديكم إلى المرافق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} 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cs typeface="Monotype Koufi"/>
              </a:rPr>
              <a:t>سورة المائدة (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6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)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 ، أنظر صورة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5</a:t>
            </a:r>
            <a:r>
              <a:rPr b="0" lang="ar-SA" sz="24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Wadoo5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3733920" cy="38862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079-F934-444A-AE5A-4C76535C4DF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1704960"/>
            <a:ext cx="5486400" cy="52232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ثم يمسح رأسه مع الأذنين مرة واحدة ، ويبدأ من مقدمة رأسه ثم يذهب بيديه إل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مؤخرة رأسه ثم يعود إلى مقدمة رأسه مرة أخر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cc"/>
                </a:solidFill>
                <a:latin typeface="Tahoma"/>
                <a:cs typeface="Monotype Koufi"/>
              </a:rPr>
              <a:t>أنظر صورة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6</a:t>
            </a:r>
            <a:r>
              <a:rPr b="1" lang="en-US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Wadoo6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2362320" cy="4495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9FD-CFBF-40D6-8741-2C8C45CD91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04960"/>
            <a:ext cx="3886200" cy="407016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يمسح أذنيه بما بقي على يديه من ماء الرأس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cc"/>
                </a:solidFill>
                <a:latin typeface="Tahoma"/>
                <a:cs typeface="Monotype Koufi"/>
              </a:rPr>
              <a:t>أنظر صورة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7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Wadoo7" descr=""/>
          <p:cNvPicPr/>
          <p:nvPr/>
        </p:nvPicPr>
        <p:blipFill>
          <a:blip r:embed="rId2"/>
          <a:stretch/>
        </p:blipFill>
        <p:spPr>
          <a:xfrm>
            <a:off x="609480" y="1727280"/>
            <a:ext cx="3581640" cy="38862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8CB-AB85-401F-89C7-5E54EDC8B1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1704960"/>
            <a:ext cx="4419720" cy="521748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Tahoma"/>
                <a:cs typeface="Monotype Koufi"/>
              </a:rPr>
              <a:t>ـ ثم يغسل رجليه مع الكعبين ، لقوله تعال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ahoma"/>
                <a:ea typeface="Monotype Koufi"/>
              </a:rPr>
              <a:t> </a:t>
            </a:r>
            <a:r>
              <a:rPr b="1" lang="ar-SA" sz="3200" spc="-1" strike="noStrike">
                <a:solidFill>
                  <a:srgbClr val="000080"/>
                </a:solidFill>
                <a:latin typeface="Tahoma"/>
                <a:ea typeface="Monotype Koufi"/>
              </a:rPr>
              <a:t>{</a:t>
            </a:r>
            <a:r>
              <a:rPr b="1" lang="ar-SA" sz="3600" spc="-1" strike="noStrike">
                <a:solidFill>
                  <a:srgbClr val="f40c33"/>
                </a:solidFill>
                <a:latin typeface="Tahoma"/>
                <a:cs typeface="Monotype Koufi"/>
              </a:rPr>
              <a:t>وأرجلكم إلى الكعبين</a:t>
            </a:r>
            <a:r>
              <a:rPr b="1" lang="ar-SA" sz="3200" spc="-1" strike="noStrike">
                <a:solidFill>
                  <a:srgbClr val="000080"/>
                </a:solidFill>
                <a:latin typeface="Tahoma"/>
                <a:ea typeface="Monotype Koufi"/>
              </a:rPr>
              <a:t>} </a:t>
            </a:r>
            <a:r>
              <a:rPr b="1" lang="ar-SA" sz="3200" spc="-1" strike="noStrike">
                <a:solidFill>
                  <a:srgbClr val="3333cc"/>
                </a:solidFill>
                <a:latin typeface="Tahoma"/>
                <a:cs typeface="Monotype Koufi"/>
              </a:rPr>
              <a:t>سورة المائدة (</a:t>
            </a:r>
            <a:r>
              <a:rPr b="1" lang="ar-SA" sz="3200" spc="-1" strike="noStrike">
                <a:solidFill>
                  <a:srgbClr val="3333cc"/>
                </a:solidFill>
                <a:latin typeface="Tahoma"/>
                <a:ea typeface="Monotype Koufi"/>
              </a:rPr>
              <a:t>6</a:t>
            </a:r>
            <a:r>
              <a:rPr b="1" lang="ar-SA" sz="3200" spc="-1" strike="noStrike">
                <a:solidFill>
                  <a:srgbClr val="3333cc"/>
                </a:solidFill>
                <a:latin typeface="Tahoma"/>
                <a:ea typeface="Monotype Koufi"/>
              </a:rPr>
              <a:t>)</a:t>
            </a:r>
            <a:r>
              <a:rPr b="1" lang="ar-SA" sz="3200" spc="-1" strike="noStrike">
                <a:solidFill>
                  <a:srgbClr val="000080"/>
                </a:solidFill>
                <a:latin typeface="Tahoma"/>
                <a:ea typeface="Monotype Koufi"/>
              </a:rPr>
              <a:t> والكعبان هما العظمان البارزان في أسفل الساق </a:t>
            </a:r>
            <a:r>
              <a:rPr b="1" lang="ar-SA" sz="3200" spc="-1" strike="noStrike">
                <a:solidFill>
                  <a:srgbClr val="3333cc"/>
                </a:solidFill>
                <a:latin typeface="Tahoma"/>
                <a:cs typeface="Monotype Koufi"/>
              </a:rPr>
              <a:t>أنظر صورة </a:t>
            </a:r>
            <a:r>
              <a:rPr b="1" lang="ar-SA" sz="3200" spc="-1" strike="noStrike">
                <a:solidFill>
                  <a:srgbClr val="3333cc"/>
                </a:solidFill>
                <a:latin typeface="Tahoma"/>
                <a:ea typeface="Monotype Koufi"/>
              </a:rPr>
              <a:t>8</a:t>
            </a:r>
            <a:r>
              <a:rPr b="1" lang="ar-SA" sz="3200" spc="-1" strike="noStrike">
                <a:solidFill>
                  <a:srgbClr val="000080"/>
                </a:solidFill>
                <a:latin typeface="Tahoma"/>
                <a:ea typeface="Monotype Koufi"/>
              </a:rPr>
              <a:t> ، ويجب غسلهما مع الرج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352680" cy="37339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6E0-4FB3-4C17-BAC1-666D35132F2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676520"/>
            <a:ext cx="3733560" cy="6129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80"/>
                </a:solidFill>
                <a:latin typeface="Tahoma"/>
                <a:cs typeface="Monotype Koufi"/>
              </a:rPr>
              <a:t>ـ ـ من كان مقطوع الرجل أو اليد ، فإنه يغسل ما بقي من يده أو رجله مما يجب غسله أنظر صورة </a:t>
            </a:r>
            <a:r>
              <a:rPr b="1" lang="en-US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9</a:t>
            </a:r>
            <a:r>
              <a:rPr b="1" lang="en-US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 ، فإذا كانت اليد أو الرجل مقطوعة كلها ، غسل رأس العضو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Wadoo9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572000" cy="38894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4AB-530E-4380-B5F5-9A2463A4EF8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704960"/>
            <a:ext cx="8001000" cy="50317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Tahoma"/>
                <a:cs typeface="Monotype Koufi"/>
              </a:rPr>
              <a:t>ثم يقول بعد فراغه من الوضوء : ( </a:t>
            </a:r>
            <a:r>
              <a:rPr b="1" lang="ar-SA" sz="3600" spc="-1" strike="noStrike">
                <a:solidFill>
                  <a:srgbClr val="f40c33"/>
                </a:solidFill>
                <a:latin typeface="Tahoma"/>
                <a:cs typeface="Monotype Koufi"/>
              </a:rPr>
              <a:t>أشهد أن لا إله إلا الله وحده لا شريك له وأشهد أن محمداً عبده ورسوله ، اللهم اجعلني من التوابين واجعلني من المتطهرين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 ) . 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مسلم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 . أما لفظ ( </a:t>
            </a:r>
            <a:r>
              <a:rPr b="1" lang="ar-SA" sz="3600" spc="-1" strike="noStrike">
                <a:solidFill>
                  <a:srgbClr val="ff00ff"/>
                </a:solidFill>
                <a:latin typeface="Tahoma"/>
                <a:cs typeface="Monotype Koufi"/>
              </a:rPr>
              <a:t>اللهم اجعلني من التوابين ... الخ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 ) 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cs typeface="Monotype Koufi"/>
              </a:rPr>
              <a:t>فرواه الترمذي وصححه الألباني في الإرواء (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96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979-D499-4132-8685-38245C7BE8F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704960"/>
            <a:ext cx="8001000" cy="387756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ـ يجب على المتوضئ أن يغسل أعضاءه بتتابع ، فلا يؤخر غسل عضو منها حتى ينشف الذي قب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ـ يباح أن يُنشف المتوضئ أعضاءه بعد الوضو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E37-6129-41B2-AF54-CC1ACA0C2D3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سنن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704960"/>
            <a:ext cx="8001000" cy="43603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40c33"/>
                </a:solidFill>
                <a:latin typeface="Tahoma"/>
                <a:ea typeface="Tahoma"/>
              </a:rPr>
              <a:t>1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يُسَن للمسلم أن يتسوك عند وضوءه ، أي قبل أن يبدأ وضوءه ، لقوله صلى الله عليه وسلم : ( 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cs typeface="Monotype Koufi"/>
              </a:rPr>
              <a:t>لولا أن أشق على أمتي لأمرتهم بالسواك مع كل وضوء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) .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أحمد وصححه الألباني في الإرواء (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70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46E-DC82-43D3-BE76-B6E95DF1446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سنن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1704960"/>
            <a:ext cx="4952880" cy="606636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40c33"/>
                </a:solidFill>
                <a:latin typeface="Tahoma"/>
                <a:ea typeface="Monotype Koufi"/>
              </a:rPr>
              <a:t>2</a:t>
            </a:r>
            <a:r>
              <a:rPr b="1" lang="ar-SA" sz="28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1" lang="ar-SA" sz="2800" spc="-1" strike="noStrike">
                <a:solidFill>
                  <a:srgbClr val="000080"/>
                </a:solidFill>
                <a:latin typeface="Tahoma"/>
                <a:ea typeface="Monotype Koufi"/>
              </a:rPr>
              <a:t> يُسَن للمسلم أن يغسل كفيه ثلاثاً قبل أن يبدأ وضوءه – كما سبق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Monotype Koufi"/>
              </a:rPr>
              <a:t>أنظر صور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Monotype Koufi"/>
              </a:rPr>
              <a:t>1</a:t>
            </a:r>
            <a:r>
              <a:rPr b="1" lang="ar-SA" sz="2800" spc="-1" strike="noStrike">
                <a:solidFill>
                  <a:srgbClr val="000080"/>
                </a:solidFill>
                <a:latin typeface="Tahoma"/>
                <a:ea typeface="Monotype Koufi"/>
              </a:rPr>
              <a:t> ، إلا إذا كان قائماً من النوم ، فإنه يجب عليه غسلهما ثلاثاً قبل وضوءه ، لأنه قد يكون فيهما أذى وهو لا يشعر ، لقوله صلى الله عليه وسلم ( </a:t>
            </a:r>
            <a:r>
              <a:rPr b="1" lang="ar-SA" sz="2800" spc="-1" strike="noStrike">
                <a:solidFill>
                  <a:srgbClr val="f40c33"/>
                </a:solidFill>
                <a:latin typeface="Tahoma"/>
                <a:cs typeface="Monotype Koufi"/>
              </a:rPr>
              <a:t>إذا استيقظ أحدكم من نومه فلا يغمس يده في الإناء حتى يغسلهما ثلاثاً ، فإنه لا يدري أين باتت يده</a:t>
            </a:r>
            <a:r>
              <a:rPr b="1" lang="ar-SA" sz="2800" spc="-1" strike="noStrike">
                <a:solidFill>
                  <a:srgbClr val="000080"/>
                </a:solidFill>
                <a:latin typeface="Tahoma"/>
                <a:ea typeface="Monotype Koufi"/>
              </a:rPr>
              <a:t> ) .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مسلم</a:t>
            </a:r>
            <a:r>
              <a:rPr b="1" lang="en-US" sz="2800" spc="-1" strike="noStrike">
                <a:solidFill>
                  <a:srgbClr val="000080"/>
                </a:solidFill>
                <a:latin typeface="Tahoma"/>
                <a:ea typeface="Monotype Kouf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129120" cy="39625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BF4-87D6-44F6-9D67-71F4F079456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243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52300" dir="11636436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راجعها فضيلة الشيخ العلامة </a:t>
            </a:r>
            <a:br>
              <a:rPr sz="4400"/>
            </a:br>
            <a:r>
              <a:rPr b="1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عبد الله بن عبد الرحمن الجبرين</a:t>
            </a:r>
            <a:br>
              <a:rPr sz="4400"/>
            </a:br>
            <a:r>
              <a:rPr b="0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حفظه الل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azkeah" descr=""/>
          <p:cNvPicPr/>
          <p:nvPr/>
        </p:nvPicPr>
        <p:blipFill>
          <a:blip r:embed="rId1"/>
          <a:stretch/>
        </p:blipFill>
        <p:spPr>
          <a:xfrm>
            <a:off x="1676520" y="3454560"/>
            <a:ext cx="5943600" cy="3251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سنن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704960"/>
            <a:ext cx="3581280" cy="570708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40c33"/>
                </a:solidFill>
                <a:latin typeface="Tahoma"/>
                <a:ea typeface="Monotype Koufi"/>
              </a:rPr>
              <a:t>3</a:t>
            </a:r>
            <a:r>
              <a:rPr b="1" lang="ar-SA" sz="36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1" lang="en-US" sz="3600" spc="-1" strike="noStrike">
                <a:solidFill>
                  <a:srgbClr val="f40c33"/>
                </a:solidFill>
                <a:latin typeface="Tahoma"/>
                <a:ea typeface="Monotype Koufi"/>
              </a:rPr>
              <a:t> 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cs typeface="Monotype Koufi"/>
              </a:rPr>
              <a:t>تُسَن المبالغة في الاستنشاق ،كما سب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40c33"/>
                </a:solidFill>
                <a:latin typeface="Tahoma"/>
                <a:ea typeface="Monotype Koufi"/>
              </a:rPr>
              <a:t>4</a:t>
            </a:r>
            <a:r>
              <a:rPr b="1" lang="ar-SA" sz="36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1" lang="en-US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 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cs typeface="Monotype Koufi"/>
              </a:rPr>
              <a:t>يُسَن للمسلم عند غسل وجهه أن يُخلل لحيته إذا كانت كثيفة – كما سب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2971800" cy="20574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1743120" cy="20574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041-8C63-43CC-B176-E0A24DE301C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سنن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1704960"/>
            <a:ext cx="3657600" cy="5643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40c33"/>
                </a:solidFill>
                <a:latin typeface="Tahoma"/>
                <a:ea typeface="Monotype Koufi"/>
              </a:rPr>
              <a:t>5</a:t>
            </a:r>
            <a:r>
              <a:rPr b="1" lang="ar-SA" sz="3000" spc="-1" strike="noStrike">
                <a:solidFill>
                  <a:srgbClr val="f40c33"/>
                </a:solidFill>
                <a:latin typeface="Tahoma"/>
                <a:ea typeface="Monotype Koufi"/>
              </a:rPr>
              <a:t>- </a:t>
            </a:r>
            <a:r>
              <a:rPr b="1" lang="ar-SA" sz="3000" spc="-1" strike="noStrike">
                <a:solidFill>
                  <a:srgbClr val="000080"/>
                </a:solidFill>
                <a:latin typeface="Tahoma"/>
                <a:cs typeface="Monotype Koufi"/>
              </a:rPr>
              <a:t>يُسَن للمسلم عند غسل يديه ورجليه أن يخلل أصابعهما ، لقوله صلى الله عليه وسلم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80"/>
                </a:solidFill>
                <a:latin typeface="Tahoma"/>
                <a:ea typeface="Monotype Koufi"/>
              </a:rPr>
              <a:t>(</a:t>
            </a:r>
            <a:r>
              <a:rPr b="1" lang="ar-SA" sz="3200" spc="-1" strike="noStrike">
                <a:solidFill>
                  <a:srgbClr val="f40c33"/>
                </a:solidFill>
                <a:latin typeface="Tahoma"/>
                <a:cs typeface="Monotype Koufi"/>
              </a:rPr>
              <a:t>وخلل بين الأصابع</a:t>
            </a:r>
            <a:r>
              <a:rPr b="1" lang="ar-SA" sz="3000" spc="-1" strike="noStrike">
                <a:solidFill>
                  <a:srgbClr val="000080"/>
                </a:solidFill>
                <a:latin typeface="Tahoma"/>
                <a:ea typeface="Monotype Koufi"/>
              </a:rPr>
              <a:t>)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أبو داود وصححه الألباني في صحيح أبي داود (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Monotype Koufi"/>
              </a:rPr>
              <a:t>629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Monotype Koufi"/>
              </a:rPr>
              <a:t>) أنظر صور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Monotype Kouf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743120"/>
            <a:ext cx="4648320" cy="38448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B6C-6ADC-4E77-8B13-B799C46B367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سنن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704960"/>
            <a:ext cx="8001000" cy="3750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6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يُسَن للمسلم أن يبدأ في وضوءه بأعضائه اليمنى قبل اليسرى ، أي أن يبدأ بغسل اليد اليمنى قبل اليد اليسرى ، والرجل اليمنى قبل الرجل اليسرى</a:t>
            </a:r>
            <a:r>
              <a:rPr b="0" lang="ar-SA" sz="2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687-79F5-4DFC-89C5-5AF24F5EA99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سنن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704960"/>
            <a:ext cx="8001000" cy="6255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40c33"/>
                </a:solidFill>
                <a:latin typeface="Tahoma"/>
                <a:ea typeface="Monotype Koufi"/>
              </a:rPr>
              <a:t>7</a:t>
            </a:r>
            <a:r>
              <a:rPr b="1" lang="ar-SA" sz="3600" spc="-1" strike="noStrike">
                <a:solidFill>
                  <a:srgbClr val="f40c33"/>
                </a:solidFill>
                <a:latin typeface="Tahoma"/>
                <a:ea typeface="Monotype Koufi"/>
              </a:rPr>
              <a:t>- 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cs typeface="Monotype Koufi"/>
              </a:rPr>
              <a:t>يُسَن للمسلم أن يغسل أعضاءه في الوضوء مرتين أو ثلاث مرات ولا يزيد على الثلاث ، أما الرأس فإن لا يمسحه أكثر من مسحة واحد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40c33"/>
                </a:solidFill>
                <a:latin typeface="Tahoma"/>
                <a:ea typeface="Monotype Koufi"/>
              </a:rPr>
              <a:t>8</a:t>
            </a:r>
            <a:r>
              <a:rPr b="1" lang="ar-SA" sz="36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 يُسَن للمسلم أن لا يسرف في ماء الوضوء ، لأنه صلى الله عليه وسلم توضأ ثلاثاً وقال : ( </a:t>
            </a:r>
            <a:r>
              <a:rPr b="1" lang="ar-SA" sz="3600" spc="-1" strike="noStrike">
                <a:solidFill>
                  <a:srgbClr val="f40c33"/>
                </a:solidFill>
                <a:latin typeface="Tahoma"/>
                <a:cs typeface="Monotype Koufi"/>
              </a:rPr>
              <a:t>من زاد فقد أساء وظلم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 ) 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أبو داود وصححه الألباني في صحيح أبي داود (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123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CEA-AF0E-4CC2-B239-D39176F5FF4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نواقض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704960"/>
            <a:ext cx="8001000" cy="27853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ينتقض وضوء المسلم بهذه الأشياء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1</a:t>
            </a:r>
            <a:r>
              <a:rPr b="0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0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الخارج من السبيلين ، من بولٍ أو غائط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2</a:t>
            </a:r>
            <a:r>
              <a:rPr b="0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0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الريح الخارجة من الدُبر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DF1-49B5-4F8D-88B0-CC4846E9FA0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نواقض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704960"/>
            <a:ext cx="8001000" cy="5095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40c33"/>
                </a:solidFill>
                <a:latin typeface="Tahoma"/>
                <a:ea typeface="Monotype Koufi"/>
              </a:rPr>
              <a:t>3</a:t>
            </a:r>
            <a:r>
              <a:rPr b="1" lang="ar-SA" sz="3200" spc="-1" strike="noStrike">
                <a:solidFill>
                  <a:srgbClr val="f40c33"/>
                </a:solidFill>
                <a:latin typeface="Tahoma"/>
                <a:ea typeface="Monotype Koufi"/>
              </a:rPr>
              <a:t>- </a:t>
            </a:r>
            <a:r>
              <a:rPr b="1" lang="ar-SA" sz="3200" spc="-1" strike="noStrike">
                <a:solidFill>
                  <a:srgbClr val="000080"/>
                </a:solidFill>
                <a:latin typeface="Tahoma"/>
                <a:cs typeface="Monotype Koufi"/>
              </a:rPr>
              <a:t>زوال عقل الإنسان ، إما بجنون ، أو إغماء ، أو سُكْر ، أو نوم عميق لا يحس فيه بما يخرج منه ، أما النوم اليسير الذي لا يغيب فيه إحساس الإنسان ، فإنه لا ينقض الوضوء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40c33"/>
                </a:solidFill>
                <a:latin typeface="Tahoma"/>
                <a:ea typeface="Monotype Koufi"/>
              </a:rPr>
              <a:t>4</a:t>
            </a:r>
            <a:r>
              <a:rPr b="1" lang="ar-SA" sz="32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1" lang="ar-SA" sz="3200" spc="-1" strike="noStrike">
                <a:solidFill>
                  <a:srgbClr val="000080"/>
                </a:solidFill>
                <a:latin typeface="Tahoma"/>
                <a:ea typeface="Monotype Koufi"/>
              </a:rPr>
              <a:t> لمس الفَرْج باليد بشهوة ، سواءً كان فَرْجه هو أو فَرْج غيره ، لقوله صلى الله عليه وسلم : ( </a:t>
            </a:r>
            <a:r>
              <a:rPr b="1" lang="ar-SA" sz="3200" spc="-1" strike="noStrike">
                <a:solidFill>
                  <a:srgbClr val="f40c33"/>
                </a:solidFill>
                <a:latin typeface="Tahoma"/>
                <a:cs typeface="Monotype Koufi"/>
              </a:rPr>
              <a:t>من مسَّ فرجه فليتوضاً</a:t>
            </a:r>
            <a:r>
              <a:rPr b="1" lang="ar-SA" sz="3200" spc="-1" strike="noStrike">
                <a:solidFill>
                  <a:srgbClr val="000080"/>
                </a:solidFill>
                <a:latin typeface="Tahoma"/>
                <a:ea typeface="Monotype Koufi"/>
              </a:rPr>
              <a:t> ) </a:t>
            </a:r>
            <a:r>
              <a:rPr b="1" lang="ar-SA" sz="32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أبن ماجه وصححه الألباني في الإرواء (</a:t>
            </a:r>
            <a:r>
              <a:rPr b="1" lang="ar-SA" sz="3200" spc="-1" strike="noStrike">
                <a:solidFill>
                  <a:srgbClr val="3333cc"/>
                </a:solidFill>
                <a:latin typeface="Tahoma"/>
                <a:ea typeface="Monotype Koufi"/>
              </a:rPr>
              <a:t>117</a:t>
            </a:r>
            <a:r>
              <a:rPr b="1" lang="ar-SA" sz="3200" spc="-1" strike="noStrike">
                <a:solidFill>
                  <a:srgbClr val="3333cc"/>
                </a:solidFill>
                <a:latin typeface="Tahoma"/>
                <a:ea typeface="Monotype Koufi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307-9810-4CE0-AF4C-83429C76312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نواقض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704960"/>
            <a:ext cx="8001000" cy="5223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5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أكل لحم الإبل ، لأنه صلى الله عليه وسلم سُئل : 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cs typeface="Monotype Koufi"/>
              </a:rPr>
              <a:t>أنتوضأ من لحوم الإبل ؟ قال : ( نعم )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مسل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أكل كرش الإبل أو كبده أو شحمه أو كليته أو أمعائه ينقض الوضوء ، لأنه مثل لحم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835-D7A0-4F83-B14C-37F9830FC1C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نواقض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704960"/>
            <a:ext cx="8001000" cy="44870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شرب لبن الإبل لا ينقض الوضوء ، </a:t>
            </a:r>
            <a:r>
              <a:rPr b="1" lang="hi-IN" sz="4000" spc="-1" strike="noStrike">
                <a:solidFill>
                  <a:srgbClr val="f40c33"/>
                </a:solidFill>
                <a:latin typeface="Tahoma"/>
                <a:cs typeface="Monotype Koufi"/>
              </a:rPr>
              <a:t>لأنه صلى الله عليه وسلم أمر قوماً أن يشربوا من ألبان إبل الصدقة ، ولم يأمرهم بالوضوء من ذلك .</a:t>
            </a:r>
            <a:r>
              <a:rPr b="1" lang="en-US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</a:t>
            </a:r>
            <a:r>
              <a:rPr b="1" lang="hi-IN" sz="4000" spc="-1" strike="noStrike">
                <a:solidFill>
                  <a:srgbClr val="3333cc"/>
                </a:solidFill>
                <a:latin typeface="Tahoma"/>
                <a:cs typeface="Monotype Koufi"/>
              </a:rPr>
              <a:t>متفق علي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الأحوط أن يتوضأ إذا شرب ( </a:t>
            </a:r>
            <a:r>
              <a:rPr b="1" lang="hi-IN" sz="4000" spc="-1" strike="noStrike">
                <a:solidFill>
                  <a:srgbClr val="ff00ff"/>
                </a:solidFill>
                <a:latin typeface="Tahoma"/>
                <a:cs typeface="Monotype Koufi"/>
              </a:rPr>
              <a:t>مرقة</a:t>
            </a:r>
            <a:r>
              <a:rPr b="1" lang="en-US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) لحم الإب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EAA-4B0B-419F-8F70-183BBB9D119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3808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ما يحرم على المحد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600200"/>
            <a:ext cx="8001000" cy="583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Tahoma"/>
                <a:cs typeface="Monotype Koufi"/>
              </a:rPr>
              <a:t>إذا كان المسلم مُحدثاً ، أي ليس على وضوء ، فإنه يَحْرم عليه التال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40c33"/>
                </a:solidFill>
                <a:latin typeface="Tahoma"/>
                <a:ea typeface="Monotype Koufi"/>
              </a:rPr>
              <a:t>1</a:t>
            </a:r>
            <a:r>
              <a:rPr b="1" lang="ar-SA" sz="36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 لمس المصحف ، لقوله صلى الله عليه وسلم في كتابه إلى أهل اليمن ( </a:t>
            </a:r>
            <a:r>
              <a:rPr b="1" lang="ar-SA" sz="3600" spc="-1" strike="noStrike">
                <a:solidFill>
                  <a:srgbClr val="f40c33"/>
                </a:solidFill>
                <a:latin typeface="Tahoma"/>
                <a:cs typeface="Monotype Koufi"/>
              </a:rPr>
              <a:t>لا يمس القرآن إلا طاهر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 ) 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الدارقطني وصححه الألباني في الإرواء (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122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)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Tahoma"/>
                <a:cs typeface="Monotype Koufi"/>
              </a:rPr>
              <a:t>أما قراءة القرآن دون لمس المصحف فتجوز للمُحْد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F97-D42E-4D7D-8005-667965A4C29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71600" y="3808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ما يحرم على المحد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600200"/>
            <a:ext cx="8001000" cy="50965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2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الصلاة ، فلا يجوز للمُحْدث أن يصلي حتى يتوضأ ، لقوله صلى الله عليه وسلم : ( 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cs typeface="Monotype Koufi"/>
              </a:rPr>
              <a:t>لا يقبل الله صلاةً بغير طهور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)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مسلم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يجوز للمُحْدث أن يسجد سجود التلاوة ، أو سجود الشكر ، لأنهما ليسا بصلاة ، والأفضل أن يتوضأ قبل السجو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119-C4D0-4172-866E-A7CAEA15379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019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52300" dir="11636436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إهداء خاص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3200" spc="-1" strike="noStrike">
                <a:solidFill>
                  <a:srgbClr val="ff3300"/>
                </a:solidFill>
                <a:latin typeface="Tahoma"/>
                <a:cs typeface="Monotype Koufi"/>
              </a:rPr>
              <a:t>جزاهم الله خير الجزاء</a:t>
            </a:r>
            <a:br>
              <a:rPr sz="3200"/>
            </a:br>
            <a:r>
              <a:rPr b="0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تصميم بالباوربوينت</a:t>
            </a:r>
            <a:br>
              <a:rPr sz="4400"/>
            </a:br>
            <a:r>
              <a:rPr b="0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د.خالد أبو علي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ahoma"/>
                <a:ea typeface="Monotype Koufi"/>
              </a:rPr>
              <a:t>khaleddr3@hotmail.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47920"/>
            <a:ext cx="8305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موقع شعلان</a:t>
            </a:r>
            <a:r>
              <a:rPr b="0" lang="en-US" sz="40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ttp://www.shalaan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موقع صيد الفوائد </a:t>
            </a:r>
            <a:r>
              <a:rPr b="0" lang="en-US" sz="40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ttp://www.saaid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71600" y="3808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ما يحرم على المحد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600200"/>
            <a:ext cx="8001000" cy="4969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3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ea typeface="Monotype Koufi"/>
              </a:rPr>
              <a:t>-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الطواف ، فلا يجوز للمُحْدث أن يطوف بالكعبة حتى يتوضأ ، لقوله صلى الله عليه وسلم ( 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cs typeface="Monotype Koufi"/>
              </a:rPr>
              <a:t>الطواف بالبيت صلاة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)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الترمذي وصححه الألباني في الإرواء (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121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)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. 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cs typeface="Monotype Koufi"/>
              </a:rPr>
              <a:t>ولأنه صلى الله عليه وسلم توضأ قبل طوافه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.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Monotype Koufi"/>
              </a:rPr>
              <a:t>متفق علي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EF3-74F8-4DD7-85C6-784852528B4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تنبيه مه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600200"/>
            <a:ext cx="8001000" cy="44870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لا يشترط للوضوء أن يغسل المسلم فرجه ، لأن غسل الفرج ( </a:t>
            </a:r>
            <a:r>
              <a:rPr b="1" lang="hi-IN" sz="4000" spc="-1" strike="noStrike">
                <a:solidFill>
                  <a:srgbClr val="ff00ff"/>
                </a:solidFill>
                <a:latin typeface="Tahoma"/>
                <a:cs typeface="Monotype Koufi"/>
              </a:rPr>
              <a:t>القُبُل أو الدُبُر</a:t>
            </a:r>
            <a:r>
              <a:rPr b="1" lang="en-US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) يكون بعد البول أو الغائط ، ولا دخل له بالوضوء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40c33"/>
                </a:solidFill>
                <a:latin typeface="Tahoma"/>
                <a:cs typeface="Monotype Koufi"/>
              </a:rPr>
              <a:t>والله أعلم وصلى الله وسلم على نبينا محمد وعلى آله وصحبه أجمعين</a:t>
            </a:r>
            <a:r>
              <a:rPr b="1" lang="en-US" sz="40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BE6-4040-4216-8CC7-BECCC57746C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8080" y="304812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لطباعة المادة العلمية برجاء مراجع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endshow"/>
          </p:cNvPr>
          <p:cNvSpPr/>
          <p:nvPr/>
        </p:nvSpPr>
        <p:spPr>
          <a:xfrm>
            <a:off x="3962520" y="5943600"/>
            <a:ext cx="1295280" cy="762120"/>
          </a:xfrm>
          <a:custGeom>
            <a:avLst/>
            <a:gdLst>
              <a:gd name="textAreaLeft" fmla="*/ 190440 w 1295280"/>
              <a:gd name="textAreaRight" fmla="*/ 1104840 w 12952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1304" y="5400"/>
                </a:lnTo>
                <a:lnTo>
                  <a:pt x="5400" y="5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1304" y="16200"/>
                </a:lnTo>
                <a:lnTo>
                  <a:pt x="31304" y="5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1304" y="16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Monotype Koufi"/>
              </a:rPr>
              <a:t>خرو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946680"/>
            <a:ext cx="8305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موقع شعلان</a:t>
            </a:r>
            <a:r>
              <a:rPr b="0" lang="en-US" sz="40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ttp://www.shalaan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موقع صيد الفوائد</a:t>
            </a:r>
            <a:r>
              <a:rPr b="0" lang="en-US" sz="40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ttp://www.saaid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289080"/>
            <a:ext cx="6705360" cy="2557440"/>
          </a:xfrm>
          <a:prstGeom prst="rect">
            <a:avLst/>
          </a:prstGeom>
          <a:noFill/>
          <a:ln w="0">
            <a:noFill/>
          </a:ln>
          <a:effectLst>
            <a:outerShdw dist="63504" dir="1301609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باور بوينت من تصم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د.خالد أبو ع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Khaleddr3@hotmail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895480"/>
            <a:ext cx="7848720" cy="0"/>
          </a:xfrm>
          <a:prstGeom prst="line">
            <a:avLst/>
          </a:prstGeom>
          <a:ln w="76320">
            <a:solidFill>
              <a:srgbClr val="f4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351-9BBA-4089-A579-F7A4E595FA22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4572000" y="4191120"/>
            <a:ext cx="3962520" cy="1600200"/>
          </a:xfrm>
          <a:custGeom>
            <a:avLst/>
            <a:gdLst>
              <a:gd name="textAreaLeft" fmla="*/ 399960 w 3962520"/>
              <a:gd name="textAreaRight" fmla="*/ 3562560 w 396252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53480" h="21600">
                <a:moveTo>
                  <a:pt x="0" y="0"/>
                </a:moveTo>
                <a:lnTo>
                  <a:pt x="53480" y="0"/>
                </a:lnTo>
                <a:lnTo>
                  <a:pt x="53480" y="21600"/>
                </a:lnTo>
                <a:lnTo>
                  <a:pt x="0" y="21600"/>
                </a:lnTo>
                <a:close/>
              </a:path>
              <a:path fill="lightenLess" w="53480" h="21600">
                <a:moveTo>
                  <a:pt x="0" y="0"/>
                </a:moveTo>
                <a:lnTo>
                  <a:pt x="53480" y="0"/>
                </a:lnTo>
                <a:lnTo>
                  <a:pt x="48080" y="5400"/>
                </a:lnTo>
                <a:lnTo>
                  <a:pt x="5400" y="5400"/>
                </a:lnTo>
                <a:close/>
              </a:path>
              <a:path fill="darken" w="53480" h="21600">
                <a:moveTo>
                  <a:pt x="53480" y="0"/>
                </a:moveTo>
                <a:lnTo>
                  <a:pt x="53480" y="21600"/>
                </a:lnTo>
                <a:lnTo>
                  <a:pt x="48080" y="16200"/>
                </a:lnTo>
                <a:lnTo>
                  <a:pt x="48080" y="5400"/>
                </a:lnTo>
                <a:close/>
              </a:path>
              <a:path fill="darkenLess" w="53480" h="21600">
                <a:moveTo>
                  <a:pt x="5348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8080" y="16200"/>
                </a:lnTo>
                <a:close/>
              </a:path>
              <a:path fill="lighten" w="5348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ما يحرم على المحد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80880"/>
            <a:ext cx="3962520" cy="1600200"/>
          </a:xfrm>
          <a:custGeom>
            <a:avLst/>
            <a:gdLst>
              <a:gd name="textAreaLeft" fmla="*/ 399960 w 3962520"/>
              <a:gd name="textAreaRight" fmla="*/ 3562560 w 396252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53480" h="21600">
                <a:moveTo>
                  <a:pt x="0" y="0"/>
                </a:moveTo>
                <a:lnTo>
                  <a:pt x="53480" y="0"/>
                </a:lnTo>
                <a:lnTo>
                  <a:pt x="53480" y="21600"/>
                </a:lnTo>
                <a:lnTo>
                  <a:pt x="0" y="21600"/>
                </a:lnTo>
                <a:close/>
              </a:path>
              <a:path fill="lightenLess" w="53480" h="21600">
                <a:moveTo>
                  <a:pt x="0" y="0"/>
                </a:moveTo>
                <a:lnTo>
                  <a:pt x="53480" y="0"/>
                </a:lnTo>
                <a:lnTo>
                  <a:pt x="48080" y="5400"/>
                </a:lnTo>
                <a:lnTo>
                  <a:pt x="5400" y="5400"/>
                </a:lnTo>
                <a:close/>
              </a:path>
              <a:path fill="darken" w="53480" h="21600">
                <a:moveTo>
                  <a:pt x="53480" y="0"/>
                </a:moveTo>
                <a:lnTo>
                  <a:pt x="53480" y="21600"/>
                </a:lnTo>
                <a:lnTo>
                  <a:pt x="48080" y="16200"/>
                </a:lnTo>
                <a:lnTo>
                  <a:pt x="48080" y="5400"/>
                </a:lnTo>
                <a:close/>
              </a:path>
              <a:path fill="darkenLess" w="53480" h="21600">
                <a:moveTo>
                  <a:pt x="5348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8080" y="16200"/>
                </a:lnTo>
                <a:close/>
              </a:path>
              <a:path fill="lighten" w="5348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ســـــنن الوضـــــو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09480" y="4191120"/>
            <a:ext cx="3962520" cy="1600200"/>
          </a:xfrm>
          <a:custGeom>
            <a:avLst/>
            <a:gdLst>
              <a:gd name="textAreaLeft" fmla="*/ 399960 w 3962520"/>
              <a:gd name="textAreaRight" fmla="*/ 3562560 w 396252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53480" h="21600">
                <a:moveTo>
                  <a:pt x="0" y="0"/>
                </a:moveTo>
                <a:lnTo>
                  <a:pt x="53480" y="0"/>
                </a:lnTo>
                <a:lnTo>
                  <a:pt x="53480" y="21600"/>
                </a:lnTo>
                <a:lnTo>
                  <a:pt x="0" y="21600"/>
                </a:lnTo>
                <a:close/>
              </a:path>
              <a:path fill="lightenLess" w="53480" h="21600">
                <a:moveTo>
                  <a:pt x="0" y="0"/>
                </a:moveTo>
                <a:lnTo>
                  <a:pt x="53480" y="0"/>
                </a:lnTo>
                <a:lnTo>
                  <a:pt x="48080" y="5400"/>
                </a:lnTo>
                <a:lnTo>
                  <a:pt x="5400" y="5400"/>
                </a:lnTo>
                <a:close/>
              </a:path>
              <a:path fill="darken" w="53480" h="21600">
                <a:moveTo>
                  <a:pt x="53480" y="0"/>
                </a:moveTo>
                <a:lnTo>
                  <a:pt x="53480" y="21600"/>
                </a:lnTo>
                <a:lnTo>
                  <a:pt x="48080" y="16200"/>
                </a:lnTo>
                <a:lnTo>
                  <a:pt x="48080" y="5400"/>
                </a:lnTo>
                <a:close/>
              </a:path>
              <a:path fill="darkenLess" w="53480" h="21600">
                <a:moveTo>
                  <a:pt x="5348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8080" y="16200"/>
                </a:lnTo>
                <a:close/>
              </a:path>
              <a:path fill="lighten" w="5348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تنبيه مه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286000"/>
            <a:ext cx="3962160" cy="1600200"/>
          </a:xfrm>
          <a:custGeom>
            <a:avLst/>
            <a:gdLst>
              <a:gd name="textAreaLeft" fmla="*/ 399960 w 3962160"/>
              <a:gd name="textAreaRight" fmla="*/ 3562200 w 396216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53475" h="21600">
                <a:moveTo>
                  <a:pt x="0" y="0"/>
                </a:moveTo>
                <a:lnTo>
                  <a:pt x="53475" y="0"/>
                </a:lnTo>
                <a:lnTo>
                  <a:pt x="53475" y="21600"/>
                </a:lnTo>
                <a:lnTo>
                  <a:pt x="0" y="21600"/>
                </a:lnTo>
                <a:close/>
              </a:path>
              <a:path fill="lightenLess" w="53475" h="21600">
                <a:moveTo>
                  <a:pt x="0" y="0"/>
                </a:moveTo>
                <a:lnTo>
                  <a:pt x="53475" y="0"/>
                </a:lnTo>
                <a:lnTo>
                  <a:pt x="48076" y="5400"/>
                </a:lnTo>
                <a:lnTo>
                  <a:pt x="5400" y="5400"/>
                </a:lnTo>
                <a:close/>
              </a:path>
              <a:path fill="darken" w="53475" h="21600">
                <a:moveTo>
                  <a:pt x="53475" y="0"/>
                </a:moveTo>
                <a:lnTo>
                  <a:pt x="53475" y="21600"/>
                </a:lnTo>
                <a:lnTo>
                  <a:pt x="48076" y="16200"/>
                </a:lnTo>
                <a:lnTo>
                  <a:pt x="48076" y="5400"/>
                </a:lnTo>
                <a:close/>
              </a:path>
              <a:path fill="darkenLess" w="53475" h="21600">
                <a:moveTo>
                  <a:pt x="534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8076" y="16200"/>
                </a:lnTo>
                <a:close/>
              </a:path>
              <a:path fill="lighten" w="534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نواقض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 </a:t>
            </a:r>
            <a:r>
              <a:rPr b="1" lang="hi-IN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وضـــــو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80880"/>
            <a:ext cx="3962520" cy="1600200"/>
          </a:xfrm>
          <a:custGeom>
            <a:avLst/>
            <a:gdLst>
              <a:gd name="textAreaLeft" fmla="*/ 399960 w 3962520"/>
              <a:gd name="textAreaRight" fmla="*/ 3562560 w 396252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53480" h="21600">
                <a:moveTo>
                  <a:pt x="0" y="0"/>
                </a:moveTo>
                <a:lnTo>
                  <a:pt x="53480" y="0"/>
                </a:lnTo>
                <a:lnTo>
                  <a:pt x="53480" y="21600"/>
                </a:lnTo>
                <a:lnTo>
                  <a:pt x="0" y="21600"/>
                </a:lnTo>
                <a:close/>
              </a:path>
              <a:path fill="lightenLess" w="53480" h="21600">
                <a:moveTo>
                  <a:pt x="0" y="0"/>
                </a:moveTo>
                <a:lnTo>
                  <a:pt x="53480" y="0"/>
                </a:lnTo>
                <a:lnTo>
                  <a:pt x="48080" y="5400"/>
                </a:lnTo>
                <a:lnTo>
                  <a:pt x="5400" y="5400"/>
                </a:lnTo>
                <a:close/>
              </a:path>
              <a:path fill="darken" w="53480" h="21600">
                <a:moveTo>
                  <a:pt x="53480" y="0"/>
                </a:moveTo>
                <a:lnTo>
                  <a:pt x="53480" y="21600"/>
                </a:lnTo>
                <a:lnTo>
                  <a:pt x="48080" y="16200"/>
                </a:lnTo>
                <a:lnTo>
                  <a:pt x="48080" y="5400"/>
                </a:lnTo>
                <a:close/>
              </a:path>
              <a:path fill="darkenLess" w="53480" h="21600">
                <a:moveTo>
                  <a:pt x="5348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8080" y="16200"/>
                </a:lnTo>
                <a:close/>
              </a:path>
              <a:path fill="lighten" w="5348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صـــــفة الوضـــــو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3962520" y="5943600"/>
            <a:ext cx="1295280" cy="762120"/>
          </a:xfrm>
          <a:custGeom>
            <a:avLst/>
            <a:gdLst>
              <a:gd name="textAreaLeft" fmla="*/ 190440 w 1295280"/>
              <a:gd name="textAreaRight" fmla="*/ 1104840 w 12952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1304" y="5400"/>
                </a:lnTo>
                <a:lnTo>
                  <a:pt x="5400" y="5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1304" y="16200"/>
                </a:lnTo>
                <a:lnTo>
                  <a:pt x="31304" y="5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1304" y="16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Monotype Koufi"/>
              </a:rPr>
              <a:t>خرو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380880"/>
            <a:ext cx="79250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5791320"/>
            <a:ext cx="79250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34520" y="380880"/>
            <a:ext cx="0" cy="5410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80880"/>
            <a:ext cx="0" cy="5410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6D1-E5A7-45D1-824E-A3E4B5E8AB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704960"/>
            <a:ext cx="8001000" cy="5706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ـ إذا أراد المسلم أن يتوضأ فإنه ينوي الوضوء بقلبه ثم يقول : ( </a:t>
            </a:r>
            <a:r>
              <a:rPr b="1" lang="ar-SA" sz="4000" spc="-1" strike="noStrike">
                <a:solidFill>
                  <a:srgbClr val="ff00ff"/>
                </a:solidFill>
                <a:latin typeface="Tahoma"/>
                <a:cs typeface="Monotype Koufi"/>
              </a:rPr>
              <a:t>بسم الله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) لقوله صلى الله عليه وسلم : ( 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cs typeface="Monotype Koufi"/>
              </a:rPr>
              <a:t>لا وضوء لمن لم يذكر اسم الله عليه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)</a:t>
            </a:r>
            <a:r>
              <a:rPr b="1" lang="ar-SA" sz="4000" spc="-1" strike="noStrike">
                <a:solidFill>
                  <a:srgbClr val="ffff00"/>
                </a:solidFill>
                <a:latin typeface="Tahoma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أحمد وحسَّنه الألباني في الإرواء (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81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 )</a:t>
            </a:r>
            <a:r>
              <a:rPr b="1" lang="ar-SA" sz="4000" spc="-1" strike="noStrike">
                <a:solidFill>
                  <a:srgbClr val="800000"/>
                </a:solidFill>
                <a:latin typeface="Tahoma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وإذا نسي أن يسمي فلا شيء عل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EA5-1A8F-489B-BAA5-C4AD18EE94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704960"/>
            <a:ext cx="4572000" cy="5706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ـ ثم يُسن أن يغسل </a:t>
            </a:r>
            <a:r>
              <a:rPr b="1" lang="ar-SA" sz="3200" spc="-1" strike="noStrike">
                <a:solidFill>
                  <a:srgbClr val="000080"/>
                </a:solidFill>
                <a:latin typeface="Tahoma"/>
                <a:cs typeface="Monotype Koufi"/>
              </a:rPr>
              <a:t>كفيه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ثلاث مرات قبل أن يبدأ وضوءه (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Monotype Koufi"/>
              </a:rPr>
              <a:t>أنظر صورة 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1</a:t>
            </a:r>
            <a:r>
              <a:rPr b="1" lang="ar-SA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ـ ثم يتمضمض ، أي : يدير الماء في فمه ، ثم يخرج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128760" cy="39625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31A-23D4-409D-8230-507975923E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1076400"/>
            <a:ext cx="3048120" cy="631548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80"/>
                </a:solidFill>
                <a:latin typeface="Tahoma"/>
                <a:cs typeface="Tahoma"/>
              </a:rPr>
              <a:t>ـ 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cs typeface="Tahoma"/>
              </a:rPr>
              <a:t>ثم يستنشق ، أي يجذب الماء بنَفَسٍ من أنفه ، ثم يستنثر ، أي يخرجه من أنف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(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cs typeface="Monotype Koufi"/>
              </a:rPr>
              <a:t>أنظر صورة </a:t>
            </a:r>
            <a:r>
              <a:rPr b="1" lang="ar-SA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2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5333760" cy="37242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B16-515C-417B-B7F3-BB62FDA95B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704960"/>
            <a:ext cx="8001000" cy="5579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80"/>
                </a:solidFill>
                <a:latin typeface="Tahoma"/>
                <a:cs typeface="Monotype Koufi"/>
              </a:rPr>
              <a:t>ـ ويُستحب أن يُبَالغ في الاستنشاق ( </a:t>
            </a:r>
            <a:r>
              <a:rPr b="1" lang="ar-SA" sz="4000" spc="-1" strike="noStrike">
                <a:solidFill>
                  <a:srgbClr val="ff00ff"/>
                </a:solidFill>
                <a:latin typeface="Tahoma"/>
                <a:cs typeface="Monotype Koufi"/>
              </a:rPr>
              <a:t>أي يستنشق بقوة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) إلا إذا كان صائماً ، فإنه لا يُبالغ ، خشية أن يدخل الماء إلى جوفه ، لقوله صلى الله عليه وسلم ( </a:t>
            </a:r>
            <a:r>
              <a:rPr b="1" lang="ar-SA" sz="4000" spc="-1" strike="noStrike">
                <a:solidFill>
                  <a:srgbClr val="f40c33"/>
                </a:solidFill>
                <a:latin typeface="Tahoma"/>
                <a:cs typeface="Monotype Koufi"/>
              </a:rPr>
              <a:t>وبالغ في الاستنشاق إلا أن تكون صائماً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)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Monotype Koufi"/>
              </a:rPr>
              <a:t>رواه أبو داود وصححه الألباني في صحيح أبي داود (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629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Monotype Koufi"/>
              </a:rPr>
              <a:t>)</a:t>
            </a:r>
            <a:r>
              <a:rPr b="1" lang="ar-SA" sz="4000" spc="-1" strike="noStrike">
                <a:solidFill>
                  <a:srgbClr val="000080"/>
                </a:solidFill>
                <a:latin typeface="Tahoma"/>
                <a:ea typeface="Monotype Koufi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878-816A-4B85-9E56-34954CF2B3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صفة الوضو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704960"/>
            <a:ext cx="3581280" cy="6677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80"/>
                </a:solidFill>
                <a:latin typeface="Tahoma"/>
                <a:cs typeface="Monotype Koufi"/>
              </a:rPr>
              <a:t>ثم يغسل وجهه ، وحدُّ الوجه طولاً : من منابت شعر الرأس ، إلى ما انحدر من اللحيين والذقنين . </a:t>
            </a:r>
            <a:r>
              <a:rPr b="1" lang="hi-IN" sz="3600" spc="-1" strike="noStrike">
                <a:solidFill>
                  <a:srgbClr val="3333cc"/>
                </a:solidFill>
                <a:latin typeface="Tahoma"/>
                <a:cs typeface="Monotype Koufi"/>
              </a:rPr>
              <a:t>أنظر صورة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3</a:t>
            </a:r>
            <a:r>
              <a:rPr b="1" lang="en-US" sz="3600" spc="-1" strike="noStrike">
                <a:solidFill>
                  <a:srgbClr val="000080"/>
                </a:solidFill>
                <a:latin typeface="Tahoma"/>
                <a:ea typeface="Monotype Koufi"/>
              </a:rPr>
              <a:t> ، ومن الأذن إلى الأذن عرضاً </a:t>
            </a:r>
            <a:r>
              <a:rPr b="1" lang="hi-IN" sz="3600" spc="-1" strike="noStrike">
                <a:solidFill>
                  <a:srgbClr val="3333cc"/>
                </a:solidFill>
                <a:latin typeface="Tahoma"/>
                <a:cs typeface="Monotype Koufi"/>
              </a:rPr>
              <a:t>أنظر صورة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  <a:ea typeface="Monotype Kouf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Wadoo3" descr=""/>
          <p:cNvPicPr/>
          <p:nvPr/>
        </p:nvPicPr>
        <p:blipFill>
          <a:blip r:embed="rId2"/>
          <a:stretch/>
        </p:blipFill>
        <p:spPr>
          <a:xfrm>
            <a:off x="380880" y="1760400"/>
            <a:ext cx="4724640" cy="37515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21337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6775"/>
                </a:moveTo>
                <a:lnTo>
                  <a:pt x="19453" y="10800"/>
                </a:lnTo>
                <a:lnTo>
                  <a:pt x="1140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5AF-1380-4BD8-90AD-F20A7D65FC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23:00:42Z</dcterms:created>
  <dc:creator>Nada</dc:creator>
  <dc:description/>
  <dc:language>en-US</dc:language>
  <cp:lastModifiedBy>***</cp:lastModifiedBy>
  <dcterms:modified xsi:type="dcterms:W3CDTF">2002-11-15T04:00:38Z</dcterms:modified>
  <cp:revision>21</cp:revision>
  <dc:subject/>
  <dc:title>الدين المعاملة</dc:title>
</cp:coreProperties>
</file>